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7.wmf" ContentType="image/x-wmf"/>
  <Override PartName="/ppt/media/image12.png" ContentType="image/png"/>
  <Override PartName="/ppt/media/image8.wmf" ContentType="image/x-wmf"/>
  <Override PartName="/ppt/media/image28.png" ContentType="image/png"/>
  <Override PartName="/ppt/media/image5.png" ContentType="image/png"/>
  <Override PartName="/ppt/media/image9.wmf" ContentType="image/x-wmf"/>
  <Override PartName="/ppt/media/image10.wmf" ContentType="image/x-wmf"/>
  <Override PartName="/ppt/media/image30.wmf" ContentType="image/x-wmf"/>
  <Override PartName="/ppt/media/image32.png" ContentType="image/png"/>
  <Override PartName="/ppt/media/image15.wmf" ContentType="image/x-wmf"/>
  <Override PartName="/ppt/media/image33.png" ContentType="image/png"/>
  <Override PartName="/ppt/media/image16.wmf" ContentType="image/x-wmf"/>
  <Override PartName="/ppt/media/image6.wmf" ContentType="image/x-wmf"/>
  <Override PartName="/ppt/media/image11.wmf" ContentType="image/x-wmf"/>
  <Override PartName="/ppt/media/image35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media/image25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39E6-1BDE-4A95-ABDB-AF464E8B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3657240"/>
            <a:ext cx="7620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4E1F-5DD8-4A30-885A-243E155A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3718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18960" y="990360"/>
            <a:ext cx="3718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3657240"/>
            <a:ext cx="3718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18960" y="3657240"/>
            <a:ext cx="3718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DB31-8203-4843-B76E-866934B8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245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90560" y="990360"/>
            <a:ext cx="245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67080" y="990360"/>
            <a:ext cx="245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3657240"/>
            <a:ext cx="245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90560" y="3657240"/>
            <a:ext cx="245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67080" y="3657240"/>
            <a:ext cx="245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DE18-F965-4482-AA2F-DC87EEB7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2F5F-09E2-4EBF-8690-FA36E2EB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E028-02DC-4A64-A0A4-2DFEE82B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9C6E-2936-422A-9A70-3E23E578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3718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8960" y="990360"/>
            <a:ext cx="3718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5886-F96C-4301-800A-BF0ED524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9565-2439-4458-AB53-151C7B9D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66320" y="380880"/>
            <a:ext cx="7620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5BE3-8BB9-4DBC-B8E4-36E48481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3718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8960" y="990360"/>
            <a:ext cx="3718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3657240"/>
            <a:ext cx="3718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54CF-07D7-420E-A1F9-E2F7A943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5A98-8FC9-466E-B15C-0CB9106F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3718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960" y="990360"/>
            <a:ext cx="3718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18960" y="3657240"/>
            <a:ext cx="3718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5740-6408-4A12-8C12-4D67B85C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3718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8960" y="990360"/>
            <a:ext cx="3718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3657240"/>
            <a:ext cx="7620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01F3-7B4F-4700-A611-1869ED2C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3657240"/>
            <a:ext cx="7620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430B-BC07-4EC5-A6E2-AB0D8419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3718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18960" y="990360"/>
            <a:ext cx="3718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3657240"/>
            <a:ext cx="3718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18960" y="3657240"/>
            <a:ext cx="3718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ACDC-6038-4044-8F44-04B38D4B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245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90560" y="990360"/>
            <a:ext cx="245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7080" y="990360"/>
            <a:ext cx="245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3657240"/>
            <a:ext cx="245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90560" y="3657240"/>
            <a:ext cx="245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7080" y="3657240"/>
            <a:ext cx="245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B259-3295-4255-BC1C-9268A157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7759-1975-467B-A5D3-3B704CA3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3718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8960" y="990360"/>
            <a:ext cx="3718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5DF-EFDC-4891-BC6D-BC7B9F19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1287-C63F-475C-82E7-A0C0BBC1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320" y="380880"/>
            <a:ext cx="7620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02BC-39DF-402E-8CEB-282988CB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3718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960" y="990360"/>
            <a:ext cx="3718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3657240"/>
            <a:ext cx="3718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02A3-99D7-4866-B42B-37987571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3718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960" y="990360"/>
            <a:ext cx="3718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18960" y="3657240"/>
            <a:ext cx="3718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A541-D30B-4AE2-BB5E-A126EF56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3718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8960" y="990360"/>
            <a:ext cx="3718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3657240"/>
            <a:ext cx="7620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65BA-3839-40D5-862F-4C44B6B8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2520" y="228600"/>
            <a:ext cx="823896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990720"/>
            <a:ext cx="767052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248160"/>
            <a:ext cx="190476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senza, Ita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248160"/>
            <a:ext cx="289548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160"/>
            <a:ext cx="190512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681D-27AF-4993-9820-6706EDE5262F}" type="slidenum"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OLDLOGO1" descr=""/>
          <p:cNvPicPr/>
          <p:nvPr/>
        </p:nvPicPr>
        <p:blipFill>
          <a:blip r:embed="rId4"/>
          <a:stretch/>
        </p:blipFill>
        <p:spPr>
          <a:xfrm>
            <a:off x="7848720" y="228600"/>
            <a:ext cx="990360" cy="91440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1066680" y="624852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DC10-9572-4798-BF68-C454C6ECA4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OLDLOGO1" descr=""/>
          <p:cNvPicPr/>
          <p:nvPr/>
        </p:nvPicPr>
        <p:blipFill>
          <a:blip r:embed="rId6"/>
          <a:stretch/>
        </p:blipFill>
        <p:spPr>
          <a:xfrm>
            <a:off x="7924680" y="152280"/>
            <a:ext cx="1067040" cy="1067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elvetica Black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8.wmf"/><Relationship Id="rId16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8.wmf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12.png"/><Relationship Id="rId20" Type="http://schemas.openxmlformats.org/officeDocument/2006/relationships/image" Target="../media/image7.wmf"/><Relationship Id="rId21" Type="http://schemas.openxmlformats.org/officeDocument/2006/relationships/image" Target="../media/image7.wmf"/><Relationship Id="rId2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47920" y="595440"/>
            <a:ext cx="6476760" cy="182880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Logic based Agents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ürgen D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University of Manch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iversity of Maryla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.Subrahmanian/F. Ozcan/Th. E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54360" y="6510240"/>
            <a:ext cx="4132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CAC9-3F21-425B-9BCA-739C1D572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2760" y="2424240"/>
            <a:ext cx="817848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70F5-0D15-465B-96AF-0C68FC30B5E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3487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. 1 Supply Chain Scenario (contd.)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 flipH="1">
            <a:off x="7772400" y="3733920"/>
            <a:ext cx="673200" cy="6858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 flipH="1">
            <a:off x="7620120" y="2743200"/>
            <a:ext cx="914400" cy="7477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7620120" y="1447920"/>
            <a:ext cx="914400" cy="8046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7315200" y="4724280"/>
            <a:ext cx="1371600" cy="8589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6858000" y="4419720"/>
            <a:ext cx="581040" cy="8380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886200" y="3505320"/>
            <a:ext cx="1752480" cy="7617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ex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6"/>
          <a:stretch/>
        </p:blipFill>
        <p:spPr>
          <a:xfrm>
            <a:off x="3657600" y="1905120"/>
            <a:ext cx="838080" cy="7556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7"/>
          <a:stretch/>
        </p:blipFill>
        <p:spPr>
          <a:xfrm>
            <a:off x="4800600" y="1905120"/>
            <a:ext cx="1143000" cy="6364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8"/>
          <a:stretch/>
        </p:blipFill>
        <p:spPr>
          <a:xfrm>
            <a:off x="1600200" y="3276720"/>
            <a:ext cx="2286000" cy="13921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657600" y="5105520"/>
            <a:ext cx="457200" cy="609480"/>
          </a:xfrm>
          <a:prstGeom prst="can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09880" y="5257800"/>
            <a:ext cx="457200" cy="609480"/>
          </a:xfrm>
          <a:prstGeom prst="can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962520" y="5410080"/>
            <a:ext cx="457200" cy="609840"/>
          </a:xfrm>
          <a:prstGeom prst="can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14800" y="5562720"/>
            <a:ext cx="457200" cy="609480"/>
          </a:xfrm>
          <a:prstGeom prst="can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9"/>
          <a:stretch/>
        </p:blipFill>
        <p:spPr>
          <a:xfrm>
            <a:off x="457200" y="4572000"/>
            <a:ext cx="1066680" cy="7351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10"/>
          <a:stretch/>
        </p:blipFill>
        <p:spPr>
          <a:xfrm>
            <a:off x="609480" y="5562720"/>
            <a:ext cx="838440" cy="7286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1373400" y="49086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371600" y="5791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16760" y="2819520"/>
            <a:ext cx="155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put f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7800" y="251460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038480" y="26668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911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5638680" y="1828800"/>
            <a:ext cx="205740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5638680" y="3200040"/>
            <a:ext cx="19814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638680" y="4038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38680" y="4267080"/>
            <a:ext cx="1447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2133720" y="4266720"/>
            <a:ext cx="175248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2133720" y="4266720"/>
            <a:ext cx="190476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758280" y="580716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r comm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82880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porting &amp; Cha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g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83240" y="5334120"/>
            <a:ext cx="121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ex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b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C9B3-8AA5-40BC-9980-370C44308C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.2 Agent Definitions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3740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Shoh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s definition- an agent is a program suppor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ngoing exec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veness, aut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activity, mobility,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FIP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s defin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ch, visual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/O prim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ing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DARP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s defin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tonomous, adapt, coop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94120" y="990360"/>
            <a:ext cx="3740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These are “behavioral” defini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IMPACT provid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 “structural” de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formal models of the  desired “behaviors”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specified by Shoham, FIPA, DARPA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2BE8-99FC-4C55-8A11-A58AC8D584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. Agents in IMPACT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ts are for everyone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gentiz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itrary Legacy Co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ledge is distributed and heterogenou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de-Call mechanism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s act wrt a clearly articulated semantic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gent Pr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rt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tatus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s Implementation should be feasibl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lexity Analy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Regular Agents,      Heavily Loaded Ag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06B5-C470-4F32-8994-DD93F22ACD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.1 What is Legacy Code?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3740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bitrary Code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n be seen as a triple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3694b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set of 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typ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 by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6600"/>
              </a:buClr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set o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predefined func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ing the data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Helvetic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694b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set o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694b6"/>
                </a:solidFill>
                <a:latin typeface="Arial"/>
              </a:rPr>
              <a:t>type composition oper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94120" y="990360"/>
            <a:ext cx="3740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ate of an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g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      at any given poi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 time,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tate of an ag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s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of objects from the type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managed by its internal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 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only w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Helvetica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an </a:t>
            </a:r>
            <a:r>
              <a:rPr b="1" lang="en-US" sz="2000" spc="-1" strike="noStrike">
                <a:solidFill>
                  <a:srgbClr val="ff0000"/>
                </a:solidFill>
                <a:latin typeface="Helvetica Black"/>
              </a:rPr>
              <a:t>action is executed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 or 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Helvetica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Helvetica Black"/>
              </a:rPr>
              <a:t>message has been received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 from another agent.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8F65-F0EA-4C09-B424-B1AACB1B5D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ode C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d: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f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,ar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ode Call At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…,ar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600200" y="1676520"/>
            <a:ext cx="5943600" cy="71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e function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fined in agent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 the specified arguments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s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ob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21304"/>
                </a:solidFill>
                <a:latin typeface="Times New Roman"/>
              </a:rPr>
              <a:t>II.2 Data Access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19280" y="4114800"/>
            <a:ext cx="5905440" cy="431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cceeds if X is in the set of objects retur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4633920"/>
            <a:ext cx="7162920" cy="21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Helvetica Black"/>
              </a:rPr>
              <a:t>in(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X,</a:t>
            </a:r>
            <a:r>
              <a:rPr b="0" lang="en-US" sz="2000" spc="-1" strike="noStrike">
                <a:solidFill>
                  <a:srgbClr val="008000"/>
                </a:solidFill>
                <a:latin typeface="Helvetica Black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Helvetica Black"/>
              </a:rPr>
              <a:t>Oracle</a:t>
            </a:r>
            <a:r>
              <a:rPr b="0" lang="en-US" sz="2000" spc="-1" strike="noStrike">
                <a:solidFill>
                  <a:srgbClr val="800000"/>
                </a:solidFill>
                <a:latin typeface="Helvetica Black"/>
              </a:rPr>
              <a:t>:</a:t>
            </a:r>
            <a:r>
              <a:rPr b="1" lang="en-US" sz="2000" spc="-1" strike="noStrike">
                <a:solidFill>
                  <a:srgbClr val="006600"/>
                </a:solidFill>
                <a:latin typeface="Helvetica Black"/>
              </a:rPr>
              <a:t>select</a:t>
            </a:r>
            <a:r>
              <a:rPr b="0" lang="en-US" sz="2000" spc="-1" strike="noStrike">
                <a:solidFill>
                  <a:srgbClr val="008000"/>
                </a:solidFill>
                <a:latin typeface="Helvetica Black"/>
              </a:rPr>
              <a:t>( 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‘depots.rel’,item,=,oxygen masks</a:t>
            </a:r>
            <a:r>
              <a:rPr b="0" lang="en-US" sz="2000" spc="-1" strike="noStrike">
                <a:solidFill>
                  <a:srgbClr val="008000"/>
                </a:solidFill>
                <a:latin typeface="Helvetica Black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Helvetica Black"/>
              </a:rPr>
              <a:t>)</a:t>
            </a:r>
            <a:r>
              <a:rPr b="0" lang="en-US" sz="2000" spc="-1" strike="noStrike">
                <a:solidFill>
                  <a:srgbClr val="008000"/>
                </a:solidFill>
                <a:latin typeface="Helvetica Black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     Find all tuples with item field equal to “oxygen mask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Helvetica Black"/>
              </a:rPr>
              <a:t>in(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X,</a:t>
            </a:r>
            <a:r>
              <a:rPr b="0" lang="en-US" sz="2000" spc="-1" strike="noStrike">
                <a:solidFill>
                  <a:srgbClr val="008000"/>
                </a:solidFill>
                <a:latin typeface="Helvetica Black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Helvetica Black"/>
              </a:rPr>
              <a:t>Route</a:t>
            </a:r>
            <a:r>
              <a:rPr b="0" lang="en-US" sz="2000" spc="-1" strike="noStrike">
                <a:solidFill>
                  <a:srgbClr val="800000"/>
                </a:solidFill>
                <a:latin typeface="Helvetica Black"/>
              </a:rPr>
              <a:t>:</a:t>
            </a:r>
            <a:r>
              <a:rPr b="1" lang="en-US" sz="2000" spc="-1" strike="noStrike">
                <a:solidFill>
                  <a:srgbClr val="006600"/>
                </a:solidFill>
                <a:latin typeface="Helvetica Black"/>
              </a:rPr>
              <a:t>plan</a:t>
            </a:r>
            <a:r>
              <a:rPr b="0" lang="en-US" sz="2000" spc="-1" strike="noStrike">
                <a:solidFill>
                  <a:srgbClr val="008000"/>
                </a:solidFill>
                <a:latin typeface="Helvetica Black"/>
              </a:rPr>
              <a:t>( 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‘map1’,20,20,50,43</a:t>
            </a:r>
            <a:r>
              <a:rPr b="0" lang="en-US" sz="2000" spc="-1" strike="noStrike">
                <a:solidFill>
                  <a:srgbClr val="008000"/>
                </a:solidFill>
                <a:latin typeface="Helvetica Black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Helvetica Black"/>
              </a:rPr>
              <a:t>)</a:t>
            </a:r>
            <a:r>
              <a:rPr b="0" lang="en-US" sz="2000" spc="-1" strike="noStrike">
                <a:solidFill>
                  <a:srgbClr val="008000"/>
                </a:solidFill>
                <a:latin typeface="Helvetica Black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                               Find all routes returned by route planner between points (20,20) and (50,43) w.r.t. map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2438280"/>
            <a:ext cx="685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Helvetica Black"/>
              </a:rPr>
              <a:t>Route</a:t>
            </a:r>
            <a:r>
              <a:rPr b="0" lang="en-US" sz="2400" spc="-1" strike="noStrike">
                <a:solidFill>
                  <a:srgbClr val="000000"/>
                </a:solidFill>
                <a:latin typeface="Helvetica Black"/>
              </a:rPr>
              <a:t>:</a:t>
            </a:r>
            <a:r>
              <a:rPr b="1" lang="en-US" sz="2400" spc="-1" strike="noStrike">
                <a:solidFill>
                  <a:srgbClr val="006600"/>
                </a:solidFill>
                <a:latin typeface="Helvetica Black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Helvetica Black"/>
              </a:rPr>
              <a:t>( 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‘map1’,20,20,50,43</a:t>
            </a:r>
            <a:r>
              <a:rPr b="0" lang="en-US" sz="2400" spc="-1" strike="noStrike">
                <a:solidFill>
                  <a:srgbClr val="000000"/>
                </a:solidFill>
                <a:latin typeface="Helvetica Black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Helvetica Black"/>
              </a:rPr>
              <a:t>Oracle</a:t>
            </a:r>
            <a:r>
              <a:rPr b="0" lang="en-US" sz="2400" spc="-1" strike="noStrike">
                <a:solidFill>
                  <a:srgbClr val="000000"/>
                </a:solidFill>
                <a:latin typeface="Helvetica Black"/>
              </a:rPr>
              <a:t>:</a:t>
            </a:r>
            <a:r>
              <a:rPr b="1" lang="en-US" sz="2400" spc="-1" strike="noStrike">
                <a:solidFill>
                  <a:srgbClr val="006600"/>
                </a:solidFill>
                <a:latin typeface="Helvetica Black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Helvetica Black"/>
              </a:rPr>
              <a:t>( 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‘depots.rel’,item,=,oxygen masks</a:t>
            </a:r>
            <a:r>
              <a:rPr b="0" lang="en-US" sz="2400" spc="-1" strike="noStrike">
                <a:solidFill>
                  <a:srgbClr val="000000"/>
                </a:solidFill>
                <a:latin typeface="Helvetica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B001-E033-46FB-9083-27F54A4FC5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1304"/>
                </a:solidFill>
                <a:latin typeface="Times New Roman"/>
              </a:rPr>
              <a:t>II.3 Data Access: Code Call Conditions</a:t>
            </a:r>
            <a:endParaRPr b="1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junc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Helvetica Black"/>
              </a:rPr>
              <a:t>code call atoms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comparison atoms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Oracle: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elect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depots.rel’,item,=,oxygen masks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)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.q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route: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lan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map’,99,25,X.x,X.y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says: find X,Y such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X is a tuple in an Oracle “depot” relation specifying a depot with over 1000 oxygen masks, and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Y is a route from the location of that depot to a location (99,25) where the entity requesting the oxygen masks is located.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A1BF-E807-4AB7-BB46-786D2A1631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.4 Overall Architecture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3740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985680" y="2151000"/>
            <a:ext cx="3586320" cy="30034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4495680" y="1143000"/>
            <a:ext cx="40388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What is an agent doing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ing its semantics and acting accordingl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4800960" y="2743200"/>
            <a:ext cx="3808080" cy="3355200"/>
            <a:chOff x="4800960" y="2743200"/>
            <a:chExt cx="3808080" cy="3355200"/>
          </a:xfrm>
        </p:grpSpPr>
        <p:pic>
          <p:nvPicPr>
            <p:cNvPr id="407" name="" descr=""/>
            <p:cNvPicPr/>
            <p:nvPr/>
          </p:nvPicPr>
          <p:blipFill>
            <a:blip r:embed="rId2"/>
            <a:stretch/>
          </p:blipFill>
          <p:spPr>
            <a:xfrm>
              <a:off x="5562720" y="3200400"/>
              <a:ext cx="226044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7162920" y="2743200"/>
              <a:ext cx="1446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valuat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mess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638680" y="563868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Execute A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00960" y="2819520"/>
              <a:ext cx="150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Comput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Semanti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595E-9978-477C-AEAA-74A2104C81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.5 What is an Agent?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90360" y="4647960"/>
            <a:ext cx="7543800" cy="1447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gents are built on top of legacy or specialized software modules or systems.</a:t>
            </a:r>
            <a:r>
              <a:rPr b="1" lang="en-US" sz="2000" spc="-1" strike="noStrike">
                <a:solidFill>
                  <a:srgbClr val="cbbd8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y access data using API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409360" y="281952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ftware 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581280" y="2590920"/>
            <a:ext cx="1752480" cy="914400"/>
            <a:chOff x="3581280" y="2590920"/>
            <a:chExt cx="1752480" cy="914400"/>
          </a:xfrm>
        </p:grpSpPr>
        <p:sp>
          <p:nvSpPr>
            <p:cNvPr id="415" name=""/>
            <p:cNvSpPr/>
            <p:nvPr/>
          </p:nvSpPr>
          <p:spPr>
            <a:xfrm>
              <a:off x="3581280" y="2895840"/>
              <a:ext cx="1752480" cy="6094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81280" y="2590920"/>
              <a:ext cx="175248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erface/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9ED6-39E9-4CE2-A74A-2FC744DD63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.5 What is an Agent?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971800" y="2590920"/>
            <a:ext cx="6094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57600" y="3962520"/>
            <a:ext cx="304920" cy="457200"/>
          </a:xfrm>
          <a:prstGeom prst="can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267080" y="3962520"/>
            <a:ext cx="304920" cy="457200"/>
          </a:xfrm>
          <a:prstGeom prst="can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876920" y="3962520"/>
            <a:ext cx="304560" cy="457200"/>
          </a:xfrm>
          <a:prstGeom prst="can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733920" y="35053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343400" y="35053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952880" y="3505320"/>
            <a:ext cx="152640" cy="4572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162760" y="389736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 state (distribu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3581280" y="2590920"/>
            <a:ext cx="1752480" cy="914400"/>
            <a:chOff x="3581280" y="2590920"/>
            <a:chExt cx="1752480" cy="914400"/>
          </a:xfrm>
        </p:grpSpPr>
        <p:sp>
          <p:nvSpPr>
            <p:cNvPr id="427" name=""/>
            <p:cNvSpPr/>
            <p:nvPr/>
          </p:nvSpPr>
          <p:spPr>
            <a:xfrm>
              <a:off x="3581280" y="2895840"/>
              <a:ext cx="1752480" cy="6094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81280" y="2590920"/>
              <a:ext cx="175248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erface/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1143000" y="4800600"/>
            <a:ext cx="7558200" cy="1371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re is a message box with suitable function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e manipulates data structures, the contents of which (including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sgbox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) describe the agent’s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ate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2743200" y="3505320"/>
            <a:ext cx="762120" cy="838080"/>
            <a:chOff x="2743200" y="3505320"/>
            <a:chExt cx="762120" cy="838080"/>
          </a:xfrm>
        </p:grpSpPr>
        <p:sp>
          <p:nvSpPr>
            <p:cNvPr id="431" name=""/>
            <p:cNvSpPr/>
            <p:nvPr/>
          </p:nvSpPr>
          <p:spPr>
            <a:xfrm>
              <a:off x="3200400" y="4038480"/>
              <a:ext cx="304920" cy="304920"/>
            </a:xfrm>
            <a:prstGeom prst="irregularSeal1">
              <a:avLst/>
            </a:prstGeom>
            <a:solidFill>
              <a:srgbClr val="a1bd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43200" y="4038480"/>
              <a:ext cx="304920" cy="304920"/>
            </a:xfrm>
            <a:prstGeom prst="irregularSeal1">
              <a:avLst/>
            </a:prstGeom>
            <a:solidFill>
              <a:srgbClr val="a1bd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971440" y="3505320"/>
              <a:ext cx="15228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352680" y="3505320"/>
              <a:ext cx="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5D6A-327A-4A41-BA99-FBEECB9471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.5 What is an Agent?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248520" y="1905120"/>
            <a:ext cx="167616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971800" y="2590920"/>
            <a:ext cx="609480" cy="914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657600" y="3962520"/>
            <a:ext cx="304920" cy="457200"/>
          </a:xfrm>
          <a:prstGeom prst="can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267080" y="3962520"/>
            <a:ext cx="304920" cy="457200"/>
          </a:xfrm>
          <a:prstGeom prst="can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876920" y="3962520"/>
            <a:ext cx="304560" cy="457200"/>
          </a:xfrm>
          <a:prstGeom prst="can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33920" y="35053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343400" y="35053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52880" y="3505320"/>
            <a:ext cx="152640" cy="4572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162760" y="389736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 state (distribu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3581280" y="2590920"/>
            <a:ext cx="1752480" cy="914400"/>
            <a:chOff x="3581280" y="2590920"/>
            <a:chExt cx="1752480" cy="914400"/>
          </a:xfrm>
        </p:grpSpPr>
        <p:sp>
          <p:nvSpPr>
            <p:cNvPr id="446" name=""/>
            <p:cNvSpPr/>
            <p:nvPr/>
          </p:nvSpPr>
          <p:spPr>
            <a:xfrm>
              <a:off x="3581280" y="2895840"/>
              <a:ext cx="1752480" cy="6094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81280" y="2590920"/>
              <a:ext cx="175248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erface/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48" name=""/>
          <p:cNvCxnSpPr>
            <a:stCxn id="447" idx="3"/>
            <a:endCxn id="436" idx="1"/>
          </p:cNvCxnSpPr>
          <p:nvPr/>
        </p:nvCxnSpPr>
        <p:spPr>
          <a:xfrm flipV="1">
            <a:off x="5334120" y="2094840"/>
            <a:ext cx="915120" cy="64836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57240">
            <a:solidFill>
              <a:srgbClr val="221304"/>
            </a:solidFill>
            <a:miter/>
            <a:tailEnd len="med" type="triangle" w="med"/>
          </a:ln>
        </p:spPr>
      </p:cxnSp>
      <p:sp>
        <p:nvSpPr>
          <p:cNvPr id="449" name=""/>
          <p:cNvSpPr/>
          <p:nvPr/>
        </p:nvSpPr>
        <p:spPr>
          <a:xfrm>
            <a:off x="1143000" y="4724280"/>
            <a:ext cx="7558200" cy="1440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gents have available actions to change the st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tions are declaratively described through add/delete lists containing code call conditions. They are implemented through software c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2743200" y="3505320"/>
            <a:ext cx="762120" cy="838080"/>
            <a:chOff x="2743200" y="3505320"/>
            <a:chExt cx="762120" cy="838080"/>
          </a:xfrm>
        </p:grpSpPr>
        <p:sp>
          <p:nvSpPr>
            <p:cNvPr id="451" name=""/>
            <p:cNvSpPr/>
            <p:nvPr/>
          </p:nvSpPr>
          <p:spPr>
            <a:xfrm>
              <a:off x="3200400" y="4038480"/>
              <a:ext cx="304920" cy="304920"/>
            </a:xfrm>
            <a:prstGeom prst="irregularSeal1">
              <a:avLst/>
            </a:prstGeom>
            <a:solidFill>
              <a:srgbClr val="a1bd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43200" y="4038480"/>
              <a:ext cx="304920" cy="304920"/>
            </a:xfrm>
            <a:prstGeom prst="irregularSeal1">
              <a:avLst/>
            </a:prstGeom>
            <a:solidFill>
              <a:srgbClr val="a1bd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2971440" y="3505320"/>
              <a:ext cx="15228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52680" y="3505320"/>
              <a:ext cx="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E401-C574-42BB-B361-1EEE774B68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Overview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t 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t I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 Agents in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t II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Planning: IMPACT’ing 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t I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Regular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t 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Heavily Loaded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6C80-9962-4ECA-BAD6-A781D20198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.5 What is an Agent?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505320" y="1676520"/>
            <a:ext cx="190476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248520" y="1905120"/>
            <a:ext cx="1676160" cy="3808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971800" y="2590920"/>
            <a:ext cx="609480" cy="914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657600" y="3962520"/>
            <a:ext cx="304920" cy="457200"/>
          </a:xfrm>
          <a:prstGeom prst="can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267080" y="3962520"/>
            <a:ext cx="304920" cy="457200"/>
          </a:xfrm>
          <a:prstGeom prst="can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76920" y="3962520"/>
            <a:ext cx="304560" cy="457200"/>
          </a:xfrm>
          <a:prstGeom prst="can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33920" y="35053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343400" y="35053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952880" y="3505320"/>
            <a:ext cx="152640" cy="4572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62760" y="389736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 state (distribu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3581280" y="2590920"/>
            <a:ext cx="1752480" cy="914400"/>
            <a:chOff x="3581280" y="2590920"/>
            <a:chExt cx="1752480" cy="914400"/>
          </a:xfrm>
        </p:grpSpPr>
        <p:sp>
          <p:nvSpPr>
            <p:cNvPr id="467" name=""/>
            <p:cNvSpPr/>
            <p:nvPr/>
          </p:nvSpPr>
          <p:spPr>
            <a:xfrm>
              <a:off x="3581280" y="2895840"/>
              <a:ext cx="1752480" cy="6094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81280" y="2590920"/>
              <a:ext cx="175248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erface/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69" name=""/>
          <p:cNvCxnSpPr>
            <a:stCxn id="468" idx="3"/>
            <a:endCxn id="457" idx="1"/>
          </p:cNvCxnSpPr>
          <p:nvPr/>
        </p:nvCxnSpPr>
        <p:spPr>
          <a:xfrm flipV="1">
            <a:off x="5334120" y="2094840"/>
            <a:ext cx="915120" cy="64836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57240">
            <a:solidFill>
              <a:srgbClr val="221304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8" idx="0"/>
            <a:endCxn id="456" idx="2"/>
          </p:cNvCxnSpPr>
          <p:nvPr/>
        </p:nvCxnSpPr>
        <p:spPr>
          <a:xfrm flipV="1">
            <a:off x="4457520" y="2057040"/>
            <a:ext cx="1080" cy="534240"/>
          </a:xfrm>
          <a:prstGeom prst="straightConnector1">
            <a:avLst/>
          </a:prstGeom>
          <a:ln w="57240">
            <a:solidFill>
              <a:srgbClr val="221304"/>
            </a:solidFill>
            <a:miter/>
            <a:tailEnd len="med" type="triangle" w="med"/>
          </a:ln>
        </p:spPr>
      </p:cxnSp>
      <p:sp>
        <p:nvSpPr>
          <p:cNvPr id="471" name=""/>
          <p:cNvSpPr/>
          <p:nvPr/>
        </p:nvSpPr>
        <p:spPr>
          <a:xfrm>
            <a:off x="1143000" y="4724280"/>
            <a:ext cx="7558200" cy="1440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gents have an “agent program” encoding the agent’s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perating princi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program consists of rules that are declarative and can be easily written or modifi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743200" y="3505320"/>
            <a:ext cx="762120" cy="838080"/>
            <a:chOff x="2743200" y="3505320"/>
            <a:chExt cx="762120" cy="838080"/>
          </a:xfrm>
        </p:grpSpPr>
        <p:sp>
          <p:nvSpPr>
            <p:cNvPr id="473" name=""/>
            <p:cNvSpPr/>
            <p:nvPr/>
          </p:nvSpPr>
          <p:spPr>
            <a:xfrm>
              <a:off x="3200400" y="4038480"/>
              <a:ext cx="304920" cy="304920"/>
            </a:xfrm>
            <a:prstGeom prst="irregularSeal1">
              <a:avLst/>
            </a:prstGeom>
            <a:solidFill>
              <a:srgbClr val="a1bd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743200" y="4038480"/>
              <a:ext cx="304920" cy="304920"/>
            </a:xfrm>
            <a:prstGeom prst="irregularSeal1">
              <a:avLst/>
            </a:prstGeom>
            <a:solidFill>
              <a:srgbClr val="a1bd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2971440" y="3505320"/>
              <a:ext cx="15228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352680" y="3505320"/>
              <a:ext cx="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1262-DD12-4573-9197-7829B92FE1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.5 What is an Agent?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248520" y="2666880"/>
            <a:ext cx="190476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grity Constra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on Constra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05320" y="1676520"/>
            <a:ext cx="1904760" cy="3808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1905120"/>
            <a:ext cx="1676160" cy="3808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971800" y="2590920"/>
            <a:ext cx="609480" cy="914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7600" y="3962520"/>
            <a:ext cx="304920" cy="457200"/>
          </a:xfrm>
          <a:prstGeom prst="can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267080" y="3962520"/>
            <a:ext cx="304920" cy="457200"/>
          </a:xfrm>
          <a:prstGeom prst="can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876920" y="3962520"/>
            <a:ext cx="304560" cy="457200"/>
          </a:xfrm>
          <a:prstGeom prst="can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733920" y="35053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343400" y="35053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952880" y="3505320"/>
            <a:ext cx="152640" cy="4572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62760" y="389736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 state (distribu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3581280" y="2590920"/>
            <a:ext cx="1752480" cy="914400"/>
            <a:chOff x="3581280" y="2590920"/>
            <a:chExt cx="1752480" cy="914400"/>
          </a:xfrm>
        </p:grpSpPr>
        <p:sp>
          <p:nvSpPr>
            <p:cNvPr id="490" name=""/>
            <p:cNvSpPr/>
            <p:nvPr/>
          </p:nvSpPr>
          <p:spPr>
            <a:xfrm>
              <a:off x="3581280" y="2895840"/>
              <a:ext cx="1752480" cy="6094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81280" y="2590920"/>
              <a:ext cx="175248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erface/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2" name=""/>
          <p:cNvCxnSpPr>
            <a:stCxn id="491" idx="3"/>
            <a:endCxn id="480" idx="1"/>
          </p:cNvCxnSpPr>
          <p:nvPr/>
        </p:nvCxnSpPr>
        <p:spPr>
          <a:xfrm flipV="1">
            <a:off x="5334120" y="2094840"/>
            <a:ext cx="915120" cy="64836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57240">
            <a:solidFill>
              <a:srgbClr val="221304"/>
            </a:solidFill>
            <a:miter/>
            <a:tailEnd len="med" type="triangle" w="med"/>
          </a:ln>
        </p:spPr>
      </p:cxnSp>
      <p:cxnSp>
        <p:nvCxnSpPr>
          <p:cNvPr id="493" name=""/>
          <p:cNvCxnSpPr>
            <a:stCxn id="491" idx="0"/>
            <a:endCxn id="479" idx="2"/>
          </p:cNvCxnSpPr>
          <p:nvPr/>
        </p:nvCxnSpPr>
        <p:spPr>
          <a:xfrm flipV="1">
            <a:off x="4457520" y="2057040"/>
            <a:ext cx="1080" cy="534240"/>
          </a:xfrm>
          <a:prstGeom prst="straightConnector1">
            <a:avLst/>
          </a:prstGeom>
          <a:ln w="57240">
            <a:solidFill>
              <a:srgbClr val="221304"/>
            </a:solidFill>
            <a:miter/>
            <a:tailEnd len="med" type="triangle" w="med"/>
          </a:ln>
        </p:spPr>
      </p:cxnSp>
      <p:cxnSp>
        <p:nvCxnSpPr>
          <p:cNvPr id="494" name=""/>
          <p:cNvCxnSpPr>
            <a:stCxn id="490" idx="3"/>
            <a:endCxn id="478" idx="1"/>
          </p:cNvCxnSpPr>
          <p:nvPr/>
        </p:nvCxnSpPr>
        <p:spPr>
          <a:xfrm flipV="1">
            <a:off x="5334120" y="2894760"/>
            <a:ext cx="915120" cy="305640"/>
          </a:xfrm>
          <a:prstGeom prst="straightConnector1">
            <a:avLst/>
          </a:prstGeom>
          <a:ln w="57240">
            <a:solidFill>
              <a:srgbClr val="221304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5" name=""/>
          <p:cNvSpPr/>
          <p:nvPr/>
        </p:nvSpPr>
        <p:spPr>
          <a:xfrm>
            <a:off x="1143000" y="4724280"/>
            <a:ext cx="7558200" cy="1440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bd8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ntegrity Constraints (to preserve properties of the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ction constraints (to ensure actions do not interfe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2743200" y="3505320"/>
            <a:ext cx="762120" cy="838080"/>
            <a:chOff x="2743200" y="3505320"/>
            <a:chExt cx="762120" cy="838080"/>
          </a:xfrm>
        </p:grpSpPr>
        <p:sp>
          <p:nvSpPr>
            <p:cNvPr id="497" name=""/>
            <p:cNvSpPr/>
            <p:nvPr/>
          </p:nvSpPr>
          <p:spPr>
            <a:xfrm>
              <a:off x="3200400" y="4038480"/>
              <a:ext cx="304920" cy="304920"/>
            </a:xfrm>
            <a:prstGeom prst="irregularSeal1">
              <a:avLst/>
            </a:prstGeom>
            <a:solidFill>
              <a:srgbClr val="a1bd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4038480"/>
              <a:ext cx="304920" cy="304920"/>
            </a:xfrm>
            <a:prstGeom prst="irregularSeal1">
              <a:avLst/>
            </a:prstGeom>
            <a:solidFill>
              <a:srgbClr val="a1bd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971440" y="3505320"/>
              <a:ext cx="15228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52680" y="3505320"/>
              <a:ext cx="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5862-C13C-4A27-8529-9F5A87CBB1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.5 What is an Agent?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505320" y="1676520"/>
            <a:ext cx="1904760" cy="3808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48520" y="1905120"/>
            <a:ext cx="1676160" cy="3808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971800" y="2590920"/>
            <a:ext cx="609480" cy="914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657600" y="3962520"/>
            <a:ext cx="304920" cy="457200"/>
          </a:xfrm>
          <a:prstGeom prst="can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267080" y="3962520"/>
            <a:ext cx="304920" cy="457200"/>
          </a:xfrm>
          <a:prstGeom prst="can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76920" y="3962520"/>
            <a:ext cx="304560" cy="457200"/>
          </a:xfrm>
          <a:prstGeom prst="can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733920" y="35053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343400" y="3505320"/>
            <a:ext cx="152280" cy="457200"/>
          </a:xfrm>
          <a:prstGeom prst="upDownArrow">
            <a:avLst>
              <a:gd name="adj1" fmla="val 50000"/>
              <a:gd name="adj2" fmla="val 597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3505320"/>
            <a:ext cx="152640" cy="4572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62760" y="389736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 state (distribu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3581280" y="2590920"/>
            <a:ext cx="1752480" cy="914400"/>
            <a:chOff x="3581280" y="2590920"/>
            <a:chExt cx="1752480" cy="914400"/>
          </a:xfrm>
        </p:grpSpPr>
        <p:sp>
          <p:nvSpPr>
            <p:cNvPr id="513" name=""/>
            <p:cNvSpPr/>
            <p:nvPr/>
          </p:nvSpPr>
          <p:spPr>
            <a:xfrm>
              <a:off x="3581280" y="2895840"/>
              <a:ext cx="1752480" cy="609480"/>
            </a:xfrm>
            <a:prstGeom prst="rect">
              <a:avLst/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581280" y="2590920"/>
              <a:ext cx="1752480" cy="30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erface/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5" name=""/>
          <p:cNvCxnSpPr>
            <a:stCxn id="514" idx="3"/>
            <a:endCxn id="503" idx="1"/>
          </p:cNvCxnSpPr>
          <p:nvPr/>
        </p:nvCxnSpPr>
        <p:spPr>
          <a:xfrm flipV="1">
            <a:off x="5334120" y="2094840"/>
            <a:ext cx="915120" cy="64836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57240">
            <a:solidFill>
              <a:srgbClr val="221304"/>
            </a:solidFill>
            <a:miter/>
            <a:tailEnd len="med" type="triangle" w="med"/>
          </a:ln>
        </p:spPr>
      </p:cxnSp>
      <p:cxnSp>
        <p:nvCxnSpPr>
          <p:cNvPr id="516" name=""/>
          <p:cNvCxnSpPr>
            <a:stCxn id="514" idx="0"/>
            <a:endCxn id="502" idx="2"/>
          </p:cNvCxnSpPr>
          <p:nvPr/>
        </p:nvCxnSpPr>
        <p:spPr>
          <a:xfrm flipV="1">
            <a:off x="4457520" y="2057040"/>
            <a:ext cx="1080" cy="534240"/>
          </a:xfrm>
          <a:prstGeom prst="straightConnector1">
            <a:avLst/>
          </a:prstGeom>
          <a:ln w="57240">
            <a:solidFill>
              <a:srgbClr val="221304"/>
            </a:solidFill>
            <a:miter/>
            <a:tailEnd len="med" type="triangle" w="med"/>
          </a:ln>
        </p:spPr>
      </p:cxnSp>
      <p:cxnSp>
        <p:nvCxnSpPr>
          <p:cNvPr id="517" name=""/>
          <p:cNvCxnSpPr/>
          <p:nvPr/>
        </p:nvCxnSpPr>
        <p:spPr>
          <a:xfrm>
            <a:off x="5333760" y="3200400"/>
            <a:ext cx="991080" cy="419760"/>
          </a:xfrm>
          <a:prstGeom prst="curvedConnector5">
            <a:avLst>
              <a:gd name="adj1" fmla="val 50000"/>
              <a:gd name="adj2" fmla="val 49957"/>
              <a:gd name="adj3" fmla="val 50000"/>
            </a:avLst>
          </a:prstGeom>
          <a:ln w="57240">
            <a:solidFill>
              <a:srgbClr val="221304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18" name=""/>
          <p:cNvSpPr/>
          <p:nvPr/>
        </p:nvSpPr>
        <p:spPr>
          <a:xfrm>
            <a:off x="1143000" y="4724280"/>
            <a:ext cx="7558200" cy="1440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Based on semantics and current state, actions are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ese actions change its own state and other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ates as well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541600" y="1523880"/>
            <a:ext cx="5681520" cy="2971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913680" y="2438280"/>
            <a:ext cx="1622520" cy="1079640"/>
          </a:xfrm>
          <a:custGeom>
            <a:avLst/>
            <a:gdLst>
              <a:gd name="textAreaLeft" fmla="*/ 253080 w 1622520"/>
              <a:gd name="textAreaRight" fmla="*/ 1419480 w 1622520"/>
              <a:gd name="textAreaTop" fmla="*/ 270000 h 1079640"/>
              <a:gd name="textAreaBottom" fmla="*/ 810000 h 1079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248520" y="2666880"/>
            <a:ext cx="190476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ity Constra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 Constra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324480" y="3429000"/>
            <a:ext cx="16765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3" name=""/>
          <p:cNvCxnSpPr>
            <a:endCxn id="521" idx="1"/>
          </p:cNvCxnSpPr>
          <p:nvPr/>
        </p:nvCxnSpPr>
        <p:spPr>
          <a:xfrm flipV="1">
            <a:off x="5334120" y="2894760"/>
            <a:ext cx="915120" cy="30564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57240">
            <a:solidFill>
              <a:srgbClr val="221304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524" name=""/>
          <p:cNvGrpSpPr/>
          <p:nvPr/>
        </p:nvGrpSpPr>
        <p:grpSpPr>
          <a:xfrm>
            <a:off x="2743200" y="3505320"/>
            <a:ext cx="762120" cy="838080"/>
            <a:chOff x="2743200" y="3505320"/>
            <a:chExt cx="762120" cy="838080"/>
          </a:xfrm>
        </p:grpSpPr>
        <p:sp>
          <p:nvSpPr>
            <p:cNvPr id="525" name=""/>
            <p:cNvSpPr/>
            <p:nvPr/>
          </p:nvSpPr>
          <p:spPr>
            <a:xfrm>
              <a:off x="3200400" y="4038480"/>
              <a:ext cx="304920" cy="304920"/>
            </a:xfrm>
            <a:prstGeom prst="irregularSeal1">
              <a:avLst/>
            </a:prstGeom>
            <a:solidFill>
              <a:srgbClr val="a1bd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3200" y="4038480"/>
              <a:ext cx="304920" cy="304920"/>
            </a:xfrm>
            <a:prstGeom prst="irregularSeal1">
              <a:avLst/>
            </a:prstGeom>
            <a:solidFill>
              <a:srgbClr val="a1bd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2971440" y="3505320"/>
              <a:ext cx="15228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352680" y="3505320"/>
              <a:ext cx="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065A-AC4E-4F7B-A3B2-27AE30A60C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.5 What is an agent?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MPACT agent consists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a set of data types  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a set of API functions implemented in any language manipulating those types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a set of actions implemented in any language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a notion of concurrency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a set of action constraints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a set of integrity constraints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an agent program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MPACT agents can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vably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(under appropriate definitions of the vague behavioral concepts) support the criteria listed in the behavioral definition of agents given by Shoham, FIPA, IBM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D5B9-3C93-4D97-BCD0-23484BAE16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.6 Agent Integrity Constraints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ent integrity constraint is a condition that the agent’s state must always satisf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ent integrity constraint has th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&lt;code call condition&gt; ==&gt; &lt;code call condi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gent state satisfies the code call condition, then it must also satisfy the code call cond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reated routes must be over 90% sa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(R,route:plan(Map,X1,Y1,X2,Y2)) &amp; In(S,route:safe(R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=&gt; S &gt; 0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body makes less money than their bo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(T1,oracle:all(‘emp’)) &amp; in(T2,oracle:select(‘emp’,name,=,T1.boss)) =&gt; T1.sal &lt; T2.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0B04-403D-4DAF-8DA2-9071165E0D3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.7 Agent Actions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3738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ction consists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action nam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(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elvetica Black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,...,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elvetica Black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a precondition code call cond.</a:t>
            </a:r>
            <a:endParaRPr b="0" lang="en-US" sz="16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An add list code call cond.</a:t>
            </a:r>
            <a:endParaRPr b="0" lang="en-US" sz="16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A delete list code call cond.</a:t>
            </a:r>
            <a:endParaRPr b="0" lang="en-US" sz="16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An execution algorithm</a:t>
            </a:r>
            <a:endParaRPr b="0" lang="en-US" sz="1600" spc="-1" strike="noStrike">
              <a:solidFill>
                <a:srgbClr val="000000"/>
              </a:solidFill>
              <a:latin typeface="Helvetica Blac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like AI, actions are implemented via imperative co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onditions/Add/Delete lists  are used by IMPACT to assess effects of the action, not to implement the actions. In classical AI, state is a set of ground atoms, and add/del lists implement set-theoretic union and difference (resp.) on this s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agent has a set of associated a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795560" y="990360"/>
            <a:ext cx="3738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of a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execute request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modify request and execute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send message(s)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clone agent 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move to remote site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do-nothing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post web page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create file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create bar graph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construct route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update database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ETC…..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8CE5-4056-43D9-9B59-5E6DDE8415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.8 Agent “Concurrency” Notion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3738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s several actions as in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s a single “merged” action as outp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 has proposed 4 ways of concurrent action exec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vary in underlying intuitions and application use, but a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two polynomial (</a:t>
            </a:r>
            <a:r>
              <a:rPr b="0" lang="en-US" sz="1600" spc="-1" strike="noStrike">
                <a:solidFill>
                  <a:srgbClr val="ff0000"/>
                </a:solidFill>
                <a:latin typeface="Helvetica Black"/>
              </a:rPr>
              <a:t>efficient</a:t>
            </a: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 !)</a:t>
            </a:r>
            <a:endParaRPr b="0" lang="en-US" sz="16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one is NP complete</a:t>
            </a:r>
            <a:endParaRPr b="0" lang="en-US" sz="16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one is co-NP complete.</a:t>
            </a:r>
            <a:endParaRPr b="0" lang="en-US" sz="1600" spc="-1" strike="noStrike">
              <a:solidFill>
                <a:srgbClr val="000000"/>
              </a:solidFill>
              <a:latin typeface="Helvetica Blac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son:  Choosing sophisticated ways of merging actions may be expens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 Agent Development Environment supports a library (under development) for the agent developer to choose concurrent execution metho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562720" y="3352680"/>
            <a:ext cx="1600200" cy="685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1d58"/>
                </a:solidFill>
                <a:latin typeface="Arial"/>
              </a:rPr>
              <a:t>Notio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1d58"/>
                </a:solidFill>
                <a:latin typeface="Arial"/>
              </a:rPr>
              <a:t>concurr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562720" y="4876920"/>
            <a:ext cx="1600200" cy="685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1d58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1d58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800600" y="35812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800600" y="3733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800600" y="3886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324480" y="40384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162920" y="3657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0" y="2971800"/>
            <a:ext cx="290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153280" y="3048120"/>
            <a:ext cx="290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4858-862E-4979-887F-671AFB76E45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.9 Agent action constraints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constraints specify conditions under which the agent cannot concurrently execute certain 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have th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{a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,…,a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}  &lt;~  &lt;code call condi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ays that if the code call condition is true w.r.t. the agent’s current state, then action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,…,a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not be executed concurr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Moves in two different directions cannot be concurrently execu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{ move(Dir1),move(Dir2)} &lt;~ Dir1 &lt;&gt; Dir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s must stay within the bud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{ order(Item1,Cost1),order(Item2,Cost2)} &lt;~ in(Amt,budget:avail()) &amp; Amt &lt; Cost1 + Cost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D65B-4DB8-4B31-B2E4-08B11AEA90D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.10 Agent Program (1)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rules of the 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g1,…,argn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---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&lt;code call condition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p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&lt;args&gt;) &amp; … &amp;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p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&lt;args&gt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“deontic modality” and is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Helvetica Black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- permitted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20720" indent="-277200">
              <a:spcBef>
                <a:spcPts val="451"/>
              </a:spcBef>
              <a:buClr>
                <a:srgbClr val="ff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Helvetica Black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- obligatory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20720" indent="-277200">
              <a:spcBef>
                <a:spcPts val="451"/>
              </a:spcBef>
              <a:buClr>
                <a:srgbClr val="ff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Helvetica Black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- do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20720" indent="-277200">
              <a:spcBef>
                <a:spcPts val="451"/>
              </a:spcBef>
              <a:buClr>
                <a:srgbClr val="ff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Helvetica Black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– forbidden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code call cond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rue and the deontic modalities in the rule body are true, then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g1,…,argn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r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BBE3-FFED-41D6-950D-4FB502B0B1E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.6 Agent Program (2)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3740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important part of the ag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 program rules must be carefully craft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oid inconsisten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ACT provides facilities to create such r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 class of programs is defined that can be efficiently implemente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gular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24280" y="1066680"/>
            <a:ext cx="4267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ocessRequ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sg.ID,Agent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g,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sgbox: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getAllMs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(Agent,Msg.Sour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aintainCou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Go,Route,Lo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Go,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msgbox: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getNoG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sg.ID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,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autoPilot: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getL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,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autoPilot: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getRo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ocessRequ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sg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djustCou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Go,Route,Lo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3C35-F9D3-44DA-9CC0-44415E50418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. 1 Supply Chain Scenario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162920" y="2057400"/>
            <a:ext cx="1143000" cy="603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467480" y="2286000"/>
            <a:ext cx="533520" cy="533520"/>
          </a:xfrm>
          <a:prstGeom prst="cube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400800" y="24382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2209680"/>
            <a:ext cx="990720" cy="6098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edi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715000" y="1905120"/>
            <a:ext cx="366840" cy="457200"/>
            <a:chOff x="5715000" y="1905120"/>
            <a:chExt cx="366840" cy="457200"/>
          </a:xfrm>
        </p:grpSpPr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5715000" y="1905120"/>
              <a:ext cx="366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 txBox="1"/>
            <p:nvPr/>
          </p:nvSpPr>
          <p:spPr>
            <a:xfrm>
              <a:off x="5715000" y="1905120"/>
              <a:ext cx="366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391520" y="5105520"/>
            <a:ext cx="1143000" cy="603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15200" y="4267080"/>
            <a:ext cx="1143000" cy="603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7238880" y="3276720"/>
            <a:ext cx="1143000" cy="60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20120" y="3352680"/>
            <a:ext cx="533160" cy="533520"/>
          </a:xfrm>
          <a:prstGeom prst="cube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4419720"/>
            <a:ext cx="533520" cy="533160"/>
          </a:xfrm>
          <a:prstGeom prst="cube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96080" y="5257800"/>
            <a:ext cx="533520" cy="533520"/>
          </a:xfrm>
          <a:prstGeom prst="cube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6400440" y="2819520"/>
            <a:ext cx="106668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6172200" y="2819520"/>
            <a:ext cx="137160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866920" y="2819520"/>
            <a:ext cx="175284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466840" y="2581200"/>
            <a:ext cx="32256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85240" y="585792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ufa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5410080"/>
            <a:ext cx="6476760" cy="824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nsors tracking performance of machine parts send reports to a performance database using which a prediction agent predicts a time window when the part will fai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651A-2502-4D1B-8A22-7451575D35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.6 Agent Program (3)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d-warning(E,M) &lt;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(Loc,entity:curloc(E)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(E’,entity:hostiles())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(Loc’,entity:curloc(E’))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(D,geo:dist(Loc,Loc’))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(D,25)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(M,file:create(E’,Loc’,D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Warning Message M to entity 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Loc is the current location of entity E</a:t>
            </a:r>
            <a:endParaRPr b="0" lang="en-US" sz="1600" spc="-1" strike="noStrike">
              <a:solidFill>
                <a:srgbClr val="000000"/>
              </a:solidFill>
              <a:latin typeface="Helvetica Black"/>
            </a:endParaRPr>
          </a:p>
        </p:txBody>
      </p:sp>
      <p:sp>
        <p:nvSpPr>
          <p:cNvPr id="556" name=""/>
          <p:cNvSpPr/>
          <p:nvPr/>
        </p:nvSpPr>
        <p:spPr>
          <a:xfrm>
            <a:off x="6019920" y="5181480"/>
            <a:ext cx="2819160" cy="6098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ed by Arm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7" name=""/>
          <p:cNvCxnSpPr>
            <a:stCxn id="556" idx="0"/>
          </p:cNvCxnSpPr>
          <p:nvPr/>
        </p:nvCxnSpPr>
        <p:spPr>
          <a:xfrm flipV="1" rot="16200000">
            <a:off x="5391000" y="3142440"/>
            <a:ext cx="3048480" cy="1029600"/>
          </a:xfrm>
          <a:prstGeom prst="curvedConnector5">
            <a:avLst>
              <a:gd name="adj1" fmla="val 90976"/>
              <a:gd name="adj2" fmla="val 49982"/>
              <a:gd name="adj3" fmla="val 90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4DA2-8DDF-4AD4-90B9-3C39EB2F378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.6 Agent Program (4)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d-warning(E,M) &lt;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(Loc,entity:curloc(E)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(E’,entity:hostiles()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(Loc’,entity:curloc(E’))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(D,geo:dist(Loc,Loc’))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(D,25)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(M,file:create(E’,Loc’,D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Warning Message M to entity 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Loc is the current location of entity E and</a:t>
            </a:r>
            <a:endParaRPr b="0" lang="en-US" sz="16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E’ is a hostile entity</a:t>
            </a:r>
            <a:endParaRPr b="0" lang="en-US" sz="1600" spc="-1" strike="noStrike">
              <a:solidFill>
                <a:srgbClr val="000000"/>
              </a:solidFill>
              <a:latin typeface="Helvetica Black"/>
            </a:endParaRPr>
          </a:p>
        </p:txBody>
      </p:sp>
      <p:sp>
        <p:nvSpPr>
          <p:cNvPr id="560" name=""/>
          <p:cNvSpPr/>
          <p:nvPr/>
        </p:nvSpPr>
        <p:spPr>
          <a:xfrm>
            <a:off x="6019920" y="5181480"/>
            <a:ext cx="2819160" cy="6098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ed by Arm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0" idx="0"/>
          </p:cNvCxnSpPr>
          <p:nvPr/>
        </p:nvCxnSpPr>
        <p:spPr>
          <a:xfrm flipV="1" rot="16200000">
            <a:off x="5581080" y="3332880"/>
            <a:ext cx="2819880" cy="877320"/>
          </a:xfrm>
          <a:prstGeom prst="curvedConnector5">
            <a:avLst>
              <a:gd name="adj1" fmla="val 101621"/>
              <a:gd name="adj2" fmla="val 50000"/>
              <a:gd name="adj3" fmla="val 1016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20A2-9BCE-4177-A973-685E49EB7F3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.6 Agent Program (5)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d-warning(E,M) &lt;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(Loc,entity:curloc(E)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(E’,entity:hostiles()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(Loc’,entity:curloc(E’)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(D,geo:dist(Loc,Loc’))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(D,25)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(M,file:create(E’,Loc’,D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Warning Message M to entity 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Loc is the current location of entity E and</a:t>
            </a:r>
            <a:endParaRPr b="0" lang="en-US" sz="16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E’ is a hostile entity and</a:t>
            </a:r>
            <a:endParaRPr b="0" lang="en-US" sz="16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E-prime’s location is Loc’</a:t>
            </a:r>
            <a:endParaRPr b="0" lang="en-US" sz="1600" spc="-1" strike="noStrike">
              <a:solidFill>
                <a:srgbClr val="000000"/>
              </a:solidFill>
              <a:latin typeface="Helvetica Black"/>
            </a:endParaRPr>
          </a:p>
        </p:txBody>
      </p:sp>
      <p:sp>
        <p:nvSpPr>
          <p:cNvPr id="564" name=""/>
          <p:cNvSpPr/>
          <p:nvPr/>
        </p:nvSpPr>
        <p:spPr>
          <a:xfrm>
            <a:off x="6019920" y="5181480"/>
            <a:ext cx="2819160" cy="6098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ed by Arm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6780960" y="1523880"/>
            <a:ext cx="1219320" cy="3429000"/>
          </a:xfrm>
          <a:custGeom>
            <a:avLst/>
            <a:gdLst>
              <a:gd name="textAreaLeft" fmla="*/ -360 w 1219320"/>
              <a:gd name="textAreaRight" fmla="*/ 1219320 w 121932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3938-38BE-431B-B03C-9F388472CAF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.6 Agent Program (6)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nd-warning(E,M) &lt;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(Loc,entity:curloc(E)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(E’,entity:hostiles()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(Loc’,entity:curloc(E’)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in(D,geo:dist(Loc,Loc’)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&lt;(D,25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(M,file:create(E’,Loc’,D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Warning Message M to entity 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Loc is the current location of entity E and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E’ is a hostile entity and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E-prime’s location is Loc’ and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The distance between Loc and Loc’ is less than 25 units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</p:txBody>
      </p:sp>
      <p:sp>
        <p:nvSpPr>
          <p:cNvPr id="568" name=""/>
          <p:cNvSpPr/>
          <p:nvPr/>
        </p:nvSpPr>
        <p:spPr>
          <a:xfrm>
            <a:off x="6172200" y="4952880"/>
            <a:ext cx="2819520" cy="6098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ed by Arm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S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6705000" y="2895480"/>
            <a:ext cx="1066680" cy="2057400"/>
          </a:xfrm>
          <a:custGeom>
            <a:avLst/>
            <a:gdLst>
              <a:gd name="textAreaLeft" fmla="*/ -360 w 1066680"/>
              <a:gd name="textAreaRight" fmla="*/ 1066680 w 106668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A4DF-ABFE-407A-9671-1083A746F0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.6 Agent Program (8)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d-warning(E,M) &lt;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(Loc,entity:curloc(E)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(E’,entity:hostiles()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(Loc’,entity:curloc(E’)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(D,geo:dist(Loc,Loc’)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&lt;(D,2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=(M,file:create(E’,Loc’,D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Warning Message M to entity 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Loc is the current location of entity E and</a:t>
            </a:r>
            <a:endParaRPr b="0" lang="en-US" sz="16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E’ is a hostile entity and</a:t>
            </a:r>
            <a:endParaRPr b="0" lang="en-US" sz="16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E-prime’s location is Loc’ and</a:t>
            </a:r>
            <a:endParaRPr b="0" lang="en-US" sz="16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The distance between Loc and Loc’ is less than 25 units and</a:t>
            </a:r>
            <a:endParaRPr b="0" lang="en-US" sz="16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M is a file containing information about E’, Loc’ and D.</a:t>
            </a:r>
            <a:endParaRPr b="0" lang="en-US" sz="1600" spc="-1" strike="noStrike">
              <a:solidFill>
                <a:srgbClr val="000000"/>
              </a:solidFill>
              <a:latin typeface="Helvetica Black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ally: Send a message M to entity E if there is a hostile entity within 25 distance units of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324480" y="4267080"/>
            <a:ext cx="2819520" cy="6098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y 2-way 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6171480" y="3276720"/>
            <a:ext cx="1676520" cy="990360"/>
          </a:xfrm>
          <a:custGeom>
            <a:avLst/>
            <a:gdLst>
              <a:gd name="textAreaLeft" fmla="*/ -360 w 1676520"/>
              <a:gd name="textAreaRight" fmla="*/ 1676520 w 167652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6061-FE86-4017-A689-9797FDC5E09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.6 Agent Program (9)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g(E,M,T) &lt;= Do send-warning(E,M) 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(T,clock:now())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warning is sent and logging is not forbidden, then send a log message n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EB87-108C-4E57-AF21-028A88851A1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.7 Feasible Status Sets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status set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be feasible, it must satisfy five types of cond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Helvetica Black"/>
              </a:rPr>
              <a:t>Deontic Consistency: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  one cannot be both forbidden and permitted to do something, etc.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Helvetica Black"/>
              </a:rPr>
              <a:t>Action Consistency: 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 the </a:t>
            </a:r>
            <a:r>
              <a:rPr b="1" lang="en-US" sz="2000" spc="-1" strike="noStrike">
                <a:solidFill>
                  <a:srgbClr val="ff3399"/>
                </a:solidFill>
                <a:latin typeface="Helvetica Black"/>
              </a:rPr>
              <a:t>DO</a:t>
            </a:r>
            <a:r>
              <a:rPr b="1" lang="en-US" sz="2000" spc="-1" strike="noStrike">
                <a:solidFill>
                  <a:srgbClr val="006600"/>
                </a:solidFill>
                <a:latin typeface="Helvetica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actions in a status set cannot violate the action constraints.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Helvetica Black"/>
              </a:rPr>
              <a:t>Deontic/Action Closure: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 if an action is obligatory, it must be permitted, done, etc.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Helvetica Black"/>
              </a:rPr>
              <a:t>State Consistency: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  if the agent executes all the </a:t>
            </a:r>
            <a:r>
              <a:rPr b="1" lang="en-US" sz="2000" spc="-1" strike="noStrike">
                <a:solidFill>
                  <a:srgbClr val="ff3399"/>
                </a:solidFill>
                <a:latin typeface="Helvetica Black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 actions in a status set, then the resulting state must satisfy the integrity constraints.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Helvetica Black"/>
              </a:rPr>
              <a:t>Closure under Program Rules: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  if the body of a rule in the agent program is true, then the rule head must be in </a:t>
            </a:r>
            <a:r>
              <a:rPr b="1" lang="en-US" sz="2000" spc="-1" strike="noStrike">
                <a:solidFill>
                  <a:srgbClr val="ff3399"/>
                </a:solidFill>
                <a:latin typeface="Helvetica Black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5AD8-33F2-47E9-8C51-D2BD6875FA7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.8 Deontic/Action Consistency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3738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be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eontically consist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ust satisfy the follow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if </a:t>
            </a:r>
            <a:r>
              <a:rPr b="1" lang="en-US" sz="1600" spc="-1" strike="noStrike">
                <a:solidFill>
                  <a:srgbClr val="ff3399"/>
                </a:solidFill>
                <a:latin typeface="Helvetica Black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a is in </a:t>
            </a:r>
            <a:r>
              <a:rPr b="1" lang="en-US" sz="1600" spc="-1" strike="noStrike">
                <a:solidFill>
                  <a:srgbClr val="ff3399"/>
                </a:solidFill>
                <a:latin typeface="Helvetica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 then </a:t>
            </a:r>
            <a:r>
              <a:rPr b="1" lang="en-US" sz="1600" spc="-1" strike="noStrike">
                <a:solidFill>
                  <a:srgbClr val="ff3399"/>
                </a:solidFill>
                <a:latin typeface="Helvetica Black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a must not be in </a:t>
            </a:r>
            <a:r>
              <a:rPr b="1" lang="en-US" sz="1600" spc="-1" strike="noStrike">
                <a:solidFill>
                  <a:srgbClr val="ff3399"/>
                </a:solidFill>
                <a:latin typeface="Helvetica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if </a:t>
            </a:r>
            <a:r>
              <a:rPr b="1" lang="en-US" sz="1600" spc="-1" strike="noStrike">
                <a:solidFill>
                  <a:srgbClr val="ff3399"/>
                </a:solidFill>
                <a:latin typeface="Helvetica Black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a in </a:t>
            </a:r>
            <a:r>
              <a:rPr b="1" lang="en-US" sz="1600" spc="-1" strike="noStrike">
                <a:solidFill>
                  <a:srgbClr val="ff3399"/>
                </a:solidFill>
                <a:latin typeface="Helvetica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 then </a:t>
            </a:r>
            <a:r>
              <a:rPr b="1" lang="en-US" sz="1600" spc="-1" strike="noStrike">
                <a:solidFill>
                  <a:srgbClr val="ff3399"/>
                </a:solidFill>
                <a:latin typeface="Helvetica Black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a must not be in </a:t>
            </a:r>
            <a:r>
              <a:rPr b="1" lang="en-US" sz="1600" spc="-1" strike="noStrike">
                <a:solidFill>
                  <a:srgbClr val="ff3399"/>
                </a:solidFill>
                <a:latin typeface="Helvetica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if </a:t>
            </a:r>
            <a:r>
              <a:rPr b="1" lang="en-US" sz="1600" spc="-1" strike="noStrike">
                <a:solidFill>
                  <a:srgbClr val="ff3399"/>
                </a:solidFill>
                <a:latin typeface="Helvetica Black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a in </a:t>
            </a:r>
            <a:r>
              <a:rPr b="1" lang="en-US" sz="1600" spc="-1" strike="noStrike">
                <a:solidFill>
                  <a:srgbClr val="ff3399"/>
                </a:solidFill>
                <a:latin typeface="Helvetica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, then the agent’s state must satisfy Pre(a).</a:t>
            </a:r>
            <a:endParaRPr b="0" lang="en-US" sz="16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Blac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be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ction-consist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       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ust satisfy the following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for each action constraint </a:t>
            </a:r>
            <a:r>
              <a:rPr b="1" i="1" lang="en-US" sz="1600" spc="-1" strike="noStrike">
                <a:solidFill>
                  <a:srgbClr val="000000"/>
                </a:solidFill>
                <a:latin typeface="Helvetica Black"/>
              </a:rPr>
              <a:t>ac</a:t>
            </a: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, if the agent state satisfies the body of </a:t>
            </a:r>
            <a:r>
              <a:rPr b="1" i="1" lang="en-US" sz="1600" spc="-1" strike="noStrike">
                <a:solidFill>
                  <a:srgbClr val="000000"/>
                </a:solidFill>
                <a:latin typeface="Helvetica Black"/>
              </a:rPr>
              <a:t>ac</a:t>
            </a: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, then the set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elvetica Black"/>
              </a:rPr>
              <a:t>{ </a:t>
            </a:r>
            <a:r>
              <a:rPr b="1" lang="en-US" sz="1600" spc="-1" strike="noStrike">
                <a:solidFill>
                  <a:srgbClr val="ff3399"/>
                </a:solidFill>
                <a:latin typeface="Helvetica Black"/>
              </a:rPr>
              <a:t>DO</a:t>
            </a:r>
            <a:r>
              <a:rPr b="1" lang="en-US" sz="1600" spc="-1" strike="noStrike">
                <a:solidFill>
                  <a:srgbClr val="006600"/>
                </a:solidFill>
                <a:latin typeface="Helvetica Blac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elvetica Black"/>
              </a:rPr>
              <a:t>a | a in </a:t>
            </a:r>
            <a:r>
              <a:rPr b="1" i="1" lang="en-US" sz="1600" spc="-1" strike="noStrike">
                <a:solidFill>
                  <a:srgbClr val="000000"/>
                </a:solidFill>
                <a:latin typeface="Helvetica Black"/>
              </a:rPr>
              <a:t>head(ac)</a:t>
            </a:r>
            <a:r>
              <a:rPr b="1" lang="en-US" sz="1600" spc="-1" strike="noStrike">
                <a:solidFill>
                  <a:srgbClr val="000000"/>
                </a:solidFill>
                <a:latin typeface="Helvetica Black"/>
              </a:rPr>
              <a:t> }</a:t>
            </a: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         cannot be a subset of </a:t>
            </a:r>
            <a:r>
              <a:rPr b="1" lang="en-US" sz="1600" spc="-1" strike="noStrike">
                <a:solidFill>
                  <a:srgbClr val="ff3399"/>
                </a:solidFill>
                <a:latin typeface="Helvetica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Helvetica Black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795560" y="990360"/>
            <a:ext cx="3738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cannot have both       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tnCourse(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NoGo,Route,Lo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tnCourse(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NoGo,Route,Lo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same status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cannot have bo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Loc(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Re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Course(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Route,Lo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same status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1A54-7EE3-4F46-8B0A-5C03E53FD1D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.9 Deontic/Action Closure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3738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ontic Clos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) is the closure of S under the rule    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“If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in S 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ontically-clos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=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ction Clos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the closure of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the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Black"/>
              </a:rPr>
              <a:t>If </a:t>
            </a:r>
            <a:r>
              <a:rPr b="1" lang="en-US" sz="1600" spc="-1" strike="noStrike">
                <a:solidFill>
                  <a:srgbClr val="ff3399"/>
                </a:solidFill>
                <a:latin typeface="Helvetica Black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Helvetica Black"/>
              </a:rPr>
              <a:t>  in </a:t>
            </a:r>
            <a:r>
              <a:rPr b="1" lang="en-US" sz="1600" spc="-1" strike="noStrike">
                <a:solidFill>
                  <a:srgbClr val="ff3399"/>
                </a:solidFill>
                <a:latin typeface="Helvetica Black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Helvetica Black"/>
              </a:rPr>
              <a:t> then </a:t>
            </a:r>
            <a:r>
              <a:rPr b="1" lang="en-US" sz="1600" spc="-1" strike="noStrike">
                <a:solidFill>
                  <a:srgbClr val="ff3399"/>
                </a:solidFill>
                <a:latin typeface="Helvetica Black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Helvetica Black"/>
              </a:rPr>
              <a:t> in </a:t>
            </a:r>
            <a:r>
              <a:rPr b="1" lang="en-US" sz="1600" spc="-1" strike="noStrike">
                <a:solidFill>
                  <a:srgbClr val="ff3399"/>
                </a:solidFill>
                <a:latin typeface="Helvetica Black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Helvetica Black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Black"/>
              </a:rPr>
              <a:t>If </a:t>
            </a:r>
            <a:r>
              <a:rPr b="1" lang="en-US" sz="1600" spc="-1" strike="noStrike">
                <a:solidFill>
                  <a:srgbClr val="ff3399"/>
                </a:solidFill>
                <a:latin typeface="Helvetica Black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Helvetica Black"/>
              </a:rPr>
              <a:t>  in </a:t>
            </a:r>
            <a:r>
              <a:rPr b="1" lang="en-US" sz="1600" spc="-1" strike="noStrike">
                <a:solidFill>
                  <a:srgbClr val="ff3399"/>
                </a:solidFill>
                <a:latin typeface="Helvetica Black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Helvetica Black"/>
              </a:rPr>
              <a:t> then </a:t>
            </a:r>
            <a:r>
              <a:rPr b="1" lang="en-US" sz="1600" spc="-1" strike="noStrike">
                <a:solidFill>
                  <a:srgbClr val="ff3399"/>
                </a:solidFill>
                <a:latin typeface="Helvetica Black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Helvetica Black"/>
              </a:rPr>
              <a:t> in </a:t>
            </a:r>
            <a:r>
              <a:rPr b="1" lang="en-US" sz="1600" spc="-1" strike="noStrike">
                <a:solidFill>
                  <a:srgbClr val="ff3399"/>
                </a:solidFill>
                <a:latin typeface="Helvetica Black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Helvetica Black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ction-clos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f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=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795560" y="990360"/>
            <a:ext cx="3738600" cy="51051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possible that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Loc(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Rep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Loc(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Rep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not.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en it has to be ad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 has to be done for all status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lso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have to inclu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Loc(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Rep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to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nsure Action Clos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 has to be done for all status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D114-1D23-4C49-B6A2-55E0329A91A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.10 State Consistency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3738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tate-consist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st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if and only if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urrently exec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DO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s a st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’ that satisfies all integrity constra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795560" y="990360"/>
            <a:ext cx="3738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all our integrity constraints from a previous slide: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4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Monotype Sort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elvetica Black"/>
              </a:rPr>
              <a:t>in(</a:t>
            </a: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S, </a:t>
            </a:r>
            <a:r>
              <a:rPr b="0" lang="en-US" sz="1600" spc="-1" strike="noStrike">
                <a:solidFill>
                  <a:srgbClr val="cc0000"/>
                </a:solidFill>
                <a:latin typeface="Helvetica Black"/>
              </a:rPr>
              <a:t>tank:getSpeed</a:t>
            </a: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()</a:t>
            </a:r>
            <a:r>
              <a:rPr b="1" lang="en-US" sz="1600" spc="-1" strike="noStrike">
                <a:solidFill>
                  <a:srgbClr val="000000"/>
                </a:solidFill>
                <a:latin typeface="Helvetica Black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                </a:t>
            </a:r>
            <a:r>
              <a:rPr b="1" lang="en-US" sz="2000" spc="-1" strike="noStrike">
                <a:solidFill>
                  <a:srgbClr val="ff3399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 S &lt;= MaxSpeed </a:t>
            </a:r>
            <a:endParaRPr b="0" lang="en-US" sz="16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Monotype Sort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elvetica Black"/>
              </a:rPr>
              <a:t>in(</a:t>
            </a: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S, </a:t>
            </a:r>
            <a:r>
              <a:rPr b="0" lang="en-US" sz="1600" spc="-1" strike="noStrike">
                <a:solidFill>
                  <a:srgbClr val="cc0000"/>
                </a:solidFill>
                <a:latin typeface="Helvetica Black"/>
              </a:rPr>
              <a:t>heli :getAlt</a:t>
            </a: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()</a:t>
            </a:r>
            <a:r>
              <a:rPr b="1" lang="en-US" sz="1600" spc="-1" strike="noStrike">
                <a:solidFill>
                  <a:srgbClr val="000000"/>
                </a:solidFill>
                <a:latin typeface="Helvetica Black"/>
              </a:rPr>
              <a:t>)  </a:t>
            </a: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                     </a:t>
            </a:r>
            <a:r>
              <a:rPr b="1" lang="en-US" sz="2000" spc="-1" strike="noStrike">
                <a:solidFill>
                  <a:srgbClr val="ff3399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 S &lt;= MaxAlt</a:t>
            </a:r>
            <a:endParaRPr b="0" lang="en-US" sz="16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to make sure, that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xecuting all a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have to be executed (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DO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does not have effe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dd-list, delete list)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ontradic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ntegrity constra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5114-1260-49F2-B16D-2D6CF9E8F8A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. 1 Supply Chain Scenario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62920" y="2057400"/>
            <a:ext cx="1143000" cy="603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467480" y="2286000"/>
            <a:ext cx="533520" cy="533520"/>
          </a:xfrm>
          <a:prstGeom prst="cube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400800" y="24382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2209680"/>
            <a:ext cx="990720" cy="6098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edi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715000" y="1905120"/>
            <a:ext cx="366840" cy="457200"/>
            <a:chOff x="5715000" y="1905120"/>
            <a:chExt cx="366840" cy="45720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5715000" y="1905120"/>
              <a:ext cx="366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 txBox="1"/>
            <p:nvPr/>
          </p:nvSpPr>
          <p:spPr>
            <a:xfrm>
              <a:off x="5715000" y="1905120"/>
              <a:ext cx="366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391520" y="5105520"/>
            <a:ext cx="1143000" cy="603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7315200" y="4267080"/>
            <a:ext cx="1143000" cy="603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7238880" y="3276720"/>
            <a:ext cx="1143000" cy="603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620120" y="3352680"/>
            <a:ext cx="533160" cy="533520"/>
          </a:xfrm>
          <a:prstGeom prst="cube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4419720"/>
            <a:ext cx="533520" cy="533160"/>
          </a:xfrm>
          <a:prstGeom prst="cube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96080" y="5257800"/>
            <a:ext cx="533520" cy="533520"/>
          </a:xfrm>
          <a:prstGeom prst="cube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6400440" y="2819520"/>
            <a:ext cx="106668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6172200" y="2819520"/>
            <a:ext cx="137160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5866920" y="2819520"/>
            <a:ext cx="175284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66840" y="2581200"/>
            <a:ext cx="32256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85240" y="585792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ufa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5960" y="5562720"/>
            <a:ext cx="461088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ediction agent sends these predictions on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purchasing ag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57600" y="3581280"/>
            <a:ext cx="1143000" cy="6098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urcha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343040" y="2514600"/>
            <a:ext cx="106668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8E8D-DDDE-4510-A883-A02F4B4B3C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.11 Closure under Program Rules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3738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PP(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the set of all status atoms inferrable in one step by agent A, assuming its state i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it has already inferred 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PP(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constructed by examining each rul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e agent program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if all positive status atoms in </a:t>
            </a:r>
            <a:r>
              <a:rPr b="0" i="1" lang="en-US" sz="1600" spc="-1" strike="noStrike">
                <a:solidFill>
                  <a:srgbClr val="000000"/>
                </a:solidFill>
                <a:latin typeface="Helvetica Black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’s body are in </a:t>
            </a:r>
            <a:r>
              <a:rPr b="1" lang="en-US" sz="1400" spc="-1" strike="noStrike">
                <a:solidFill>
                  <a:srgbClr val="ff3399"/>
                </a:solidFill>
                <a:latin typeface="Helvetica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 and</a:t>
            </a:r>
            <a:endParaRPr b="0" lang="en-US" sz="16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if no negative status atom in </a:t>
            </a:r>
            <a:r>
              <a:rPr b="0" i="1" lang="en-US" sz="1600" spc="-1" strike="noStrike">
                <a:solidFill>
                  <a:srgbClr val="000000"/>
                </a:solidFill>
                <a:latin typeface="Helvetica Black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’s body is in </a:t>
            </a:r>
            <a:r>
              <a:rPr b="1" lang="en-US" sz="1400" spc="-1" strike="noStrike">
                <a:solidFill>
                  <a:srgbClr val="ff3399"/>
                </a:solidFill>
                <a:latin typeface="Helvetica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 and</a:t>
            </a:r>
            <a:endParaRPr b="0" lang="en-US" sz="16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the code call condition in </a:t>
            </a:r>
            <a:r>
              <a:rPr b="0" i="1" lang="en-US" sz="1600" spc="-1" strike="noStrike">
                <a:solidFill>
                  <a:srgbClr val="000000"/>
                </a:solidFill>
                <a:latin typeface="Helvetica Black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’s body is true in </a:t>
            </a:r>
            <a:r>
              <a:rPr b="1" lang="en-US" sz="1600" spc="-1" strike="noStrike">
                <a:solidFill>
                  <a:srgbClr val="000000"/>
                </a:solidFill>
                <a:latin typeface="Helvetica Black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THEN insert head of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Helvetica Black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 into  </a:t>
            </a:r>
            <a:r>
              <a:rPr b="1" lang="en-US" sz="1600" spc="-1" strike="noStrike">
                <a:solidFill>
                  <a:srgbClr val="cc0000"/>
                </a:solidFill>
                <a:latin typeface="Helvetica Black"/>
              </a:rPr>
              <a:t>APP(</a:t>
            </a:r>
            <a:r>
              <a:rPr b="1" lang="en-US" sz="1400" spc="-1" strike="noStrike">
                <a:solidFill>
                  <a:srgbClr val="ff3399"/>
                </a:solidFill>
                <a:latin typeface="Helvetica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Helvetica Black"/>
              </a:rPr>
              <a:t>O</a:t>
            </a:r>
            <a:r>
              <a:rPr b="1" lang="en-US" sz="1600" spc="-1" strike="noStrike">
                <a:solidFill>
                  <a:srgbClr val="cc0000"/>
                </a:solidFill>
                <a:latin typeface="Helvetica Black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elvetica Blac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Helvetica Black"/>
            </a:endParaRPr>
          </a:p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closed under program rules iff 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APP(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95560" y="990360"/>
            <a:ext cx="3738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c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cc2, 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, 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ccc1, ccc2 are tr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{ 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PP(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{  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not cl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ru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3399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c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´={ 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, 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, 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 } is cl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6AD4-2B1D-4525-B265-5B4C7AF1319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.12 Example Feasible Status Sets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cc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cc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c2,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,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ccc1, ccc2 are tr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,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,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,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,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,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feasible status s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006F-21F7-4EEF-9C01-4A6B54E2D19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.13 Other semantics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sible status sets form the core semantics for ag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sands of new semantics for agents can be developed, starting from feasible status s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an be done in much the same was as LP researchers have done (e.g. stable semantics, well founded semantics, etc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o not go over such obvious applications of LP semantics to agents in this ta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54D2-EABF-4568-A8E4-5691B392B7E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.13 Cost-based Semantics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3738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 programs may hav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z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easible status s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Objective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may be used by an agent to </a:t>
            </a: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optimize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t do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s may consi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Helvetica Black"/>
              </a:rPr>
              <a:t>cost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of executing actions,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Helvetica Black"/>
              </a:rPr>
              <a:t>desirability</a:t>
            </a:r>
            <a:r>
              <a:rPr b="1" lang="en-US" sz="1800" spc="-1" strike="noStrike">
                <a:solidFill>
                  <a:srgbClr val="003366"/>
                </a:solidFill>
                <a:latin typeface="Helvetica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of resulting state,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or </a:t>
            </a:r>
            <a:r>
              <a:rPr b="1" lang="en-US" sz="1600" spc="-1" strike="noStrike">
                <a:solidFill>
                  <a:srgbClr val="ff3399"/>
                </a:solidFill>
                <a:latin typeface="Helvetica Black"/>
              </a:rPr>
              <a:t>combinations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of the above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if two status sets are feasible, one may be “better” than the other according to an objective function, and the agent m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 according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795560" y="990360"/>
            <a:ext cx="3738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S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{ 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y_to(x1,y1,a1,s1),…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S2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{ </a:t>
            </a: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y_to(x2,y2,a2,s2),…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e Function 1: minimize fuel consumption.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hoos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1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, if the cost of fly_to(x1,x2,a1,s1) is lower than fly_to(x2,y2,a2,s2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e Function 2: minimize in-flight threat.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hoos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1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, if the threat  along the route fly_to(x1,x2,a1,s1) is lower than the threat along the route fly_to(x2,y2,a2,s2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e Function 3: select destination with lower threat and/or greater tactical val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497C-3DEF-4E94-8634-061D4F5D03B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I. Evacuation Operations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3733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t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need to be evac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a Special Operations Force (SOF) tea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as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n rout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ans of transport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e used by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00600" y="990360"/>
            <a:ext cx="3733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blem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22130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editing, bookkee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22130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to planning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22130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ed information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eterogene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-sensi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eographically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221304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eather conditions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221304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ransportation resources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221304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tatus of evacuees,  current threats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2819520" y="6400800"/>
            <a:ext cx="586728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-42840" bIns="-42840" anchor="t" rot="10800000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7BBE-2587-494D-985E-173329CD67C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I.1 Experimental Scenario 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343400" y="1219320"/>
            <a:ext cx="4419720" cy="4597560"/>
          </a:xfrm>
          <a:prstGeom prst="rect">
            <a:avLst/>
          </a:prstGeom>
          <a:solidFill>
            <a:srgbClr val="d5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di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6440" indent="-29196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hase: several possible ro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6440" indent="-29196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routes more likely to have hos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6440" indent="-29196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r routes may take too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-279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otential means of transpor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6440" indent="-29196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Wing Airc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-27972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6440" indent="-29196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or Aircraf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-27972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ico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6440" indent="-29196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Vehic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-279720">
              <a:lnSpc>
                <a:spcPct val="9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eps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90720" y="1219320"/>
            <a:ext cx="3441600" cy="4813200"/>
          </a:xfrm>
          <a:prstGeom prst="rect">
            <a:avLst/>
          </a:prstGeom>
          <a:solidFill>
            <a:srgbClr val="cc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doctr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ute will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y Point (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. Headquarters (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H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. Staging Base (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IS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O Site (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NE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as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 Haven (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676520" y="2743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76520" y="3505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76520" y="4191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676520" y="4952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A710-878B-456B-99AB-316C6B58986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I.2 How Can IMPACT Help?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143000" y="4724280"/>
            <a:ext cx="7696080" cy="990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P prov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Scalable, </a:t>
            </a:r>
            <a:r>
              <a:rPr b="1" lang="en-US" sz="2000" spc="-1" strike="noStrike">
                <a:solidFill>
                  <a:srgbClr val="cc0000"/>
                </a:solidFill>
                <a:latin typeface="Helvetica Black"/>
              </a:rPr>
              <a:t>high performance planning system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Generate and evaluate plans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prov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Access to </a:t>
            </a:r>
            <a:r>
              <a:rPr b="1" lang="en-US" sz="2000" spc="-1" strike="noStrike">
                <a:solidFill>
                  <a:srgbClr val="cc0000"/>
                </a:solidFill>
                <a:latin typeface="Helvetica Black"/>
              </a:rPr>
              <a:t>distributed,heterogeneous data sources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Seamless interoperability between different software capabilities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Ability to coordinate multiple agents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e SHOP into IMPACT, so that SHOP can utilize IMPACT’s capabilities during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7345-BF3A-44DA-B73F-E186254EF15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"/>
          <p:cNvGrpSpPr/>
          <p:nvPr/>
        </p:nvGrpSpPr>
        <p:grpSpPr>
          <a:xfrm>
            <a:off x="2743200" y="2666880"/>
            <a:ext cx="2362320" cy="1562400"/>
            <a:chOff x="2743200" y="2666880"/>
            <a:chExt cx="2362320" cy="1562400"/>
          </a:xfrm>
        </p:grpSpPr>
        <p:sp>
          <p:nvSpPr>
            <p:cNvPr id="612" name=""/>
            <p:cNvSpPr/>
            <p:nvPr/>
          </p:nvSpPr>
          <p:spPr>
            <a:xfrm>
              <a:off x="2743200" y="2971800"/>
              <a:ext cx="2362320" cy="1257480"/>
            </a:xfrm>
            <a:prstGeom prst="rect">
              <a:avLst/>
            </a:prstGeom>
            <a:solidFill>
              <a:srgbClr val="0606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Preconditions</a:t>
              </a:r>
              <a:r>
                <a:rPr b="0" lang="en-US" sz="1800" spc="-1" strike="noStrike">
                  <a:solidFill>
                    <a:srgbClr val="fefde3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efde3"/>
                  </a:solidFill>
                  <a:latin typeface="Arial"/>
                </a:rPr>
                <a:t>• </a:t>
              </a:r>
              <a:r>
                <a:rPr b="0" lang="en-US" sz="1600" spc="-1" strike="noStrike">
                  <a:solidFill>
                    <a:srgbClr val="fefde3"/>
                  </a:solidFill>
                  <a:latin typeface="Arial"/>
                </a:rPr>
                <a:t>Airport available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efde3"/>
                  </a:solidFill>
                  <a:latin typeface="Arial"/>
                </a:rPr>
                <a:t>• </a:t>
              </a:r>
              <a:r>
                <a:rPr b="0" lang="en-US" sz="1600" spc="-1" strike="noStrike">
                  <a:solidFill>
                    <a:srgbClr val="fefde3"/>
                  </a:solidFill>
                  <a:latin typeface="Arial"/>
                </a:rPr>
                <a:t>Weather ok for Plane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de3"/>
                  </a:solidFill>
                  <a:latin typeface="Arial"/>
                </a:rPr>
                <a:t>Subtasks: </a:t>
              </a:r>
              <a:r>
                <a:rPr b="0" lang="en-US" sz="1600" spc="-1" strike="noStrike">
                  <a:solidFill>
                    <a:srgbClr val="fefde3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efde3"/>
                  </a:solidFill>
                  <a:latin typeface="Arial"/>
                </a:rPr>
                <a:t> . .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733920" y="2666880"/>
              <a:ext cx="0" cy="3049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066680" y="1219320"/>
            <a:ext cx="3581640" cy="1447560"/>
            <a:chOff x="1066680" y="1219320"/>
            <a:chExt cx="3581640" cy="1447560"/>
          </a:xfrm>
        </p:grpSpPr>
        <p:sp>
          <p:nvSpPr>
            <p:cNvPr id="615" name=""/>
            <p:cNvSpPr/>
            <p:nvPr/>
          </p:nvSpPr>
          <p:spPr>
            <a:xfrm>
              <a:off x="1749600" y="1752480"/>
              <a:ext cx="1807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666699"/>
                  </a:solidFill>
                  <a:latin typeface="Arial"/>
                </a:rPr>
                <a:t>… </a:t>
              </a:r>
              <a:r>
                <a:rPr b="0" i="1" lang="en-US" sz="2000" spc="-1" strike="noStrike">
                  <a:solidFill>
                    <a:srgbClr val="666699"/>
                  </a:solidFill>
                  <a:latin typeface="Arial"/>
                </a:rPr>
                <a:t>methods 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1523880" y="1752480"/>
              <a:ext cx="533520" cy="3812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048120" y="2209680"/>
              <a:ext cx="1600200" cy="457200"/>
            </a:xfrm>
            <a:prstGeom prst="roundRect">
              <a:avLst>
                <a:gd name="adj" fmla="val 16667"/>
              </a:avLst>
            </a:prstGeom>
            <a:solidFill>
              <a:srgbClr val="06069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de3"/>
                  </a:solidFill>
                  <a:latin typeface="Arial"/>
                </a:rPr>
                <a:t>Fixed Win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066680" y="2209680"/>
              <a:ext cx="1524240" cy="3812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licopters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143000" y="1219320"/>
              <a:ext cx="3124080" cy="5205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lect transportation mean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137040" y="1773360"/>
              <a:ext cx="596880" cy="37296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5095800" y="1371600"/>
            <a:ext cx="3884760" cy="3153960"/>
            <a:chOff x="5095800" y="1371600"/>
            <a:chExt cx="3884760" cy="3153960"/>
          </a:xfrm>
        </p:grpSpPr>
        <p:sp>
          <p:nvSpPr>
            <p:cNvPr id="622" name=""/>
            <p:cNvSpPr/>
            <p:nvPr/>
          </p:nvSpPr>
          <p:spPr>
            <a:xfrm>
              <a:off x="5106960" y="1371600"/>
              <a:ext cx="3873600" cy="2871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564160" y="1744560"/>
              <a:ext cx="3416400" cy="24987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021360" y="3859200"/>
              <a:ext cx="2959200" cy="3841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21360" y="2368440"/>
              <a:ext cx="2959200" cy="8701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5400000">
              <a:off x="5767920" y="2054160"/>
              <a:ext cx="48204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5400000">
              <a:off x="5766480" y="3597120"/>
              <a:ext cx="48492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5400000">
              <a:off x="5309280" y="1473120"/>
              <a:ext cx="48492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95800" y="1387440"/>
              <a:ext cx="3743280" cy="31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lect helicop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21304"/>
                  </a:solidFill>
                  <a:latin typeface="Arial"/>
                </a:rPr>
                <a:t>Select  area (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ploy sec. force (F,A,H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mbark sec. force(F,H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ly(H,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sembark (F,H,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sition security force (F,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990720" y="2590920"/>
            <a:ext cx="1676160" cy="3352680"/>
            <a:chOff x="990720" y="2590920"/>
            <a:chExt cx="1676160" cy="3352680"/>
          </a:xfrm>
        </p:grpSpPr>
        <p:sp>
          <p:nvSpPr>
            <p:cNvPr id="631" name=""/>
            <p:cNvSpPr/>
            <p:nvPr/>
          </p:nvSpPr>
          <p:spPr>
            <a:xfrm>
              <a:off x="1523880" y="2590920"/>
              <a:ext cx="0" cy="30456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990720" y="2895480"/>
              <a:ext cx="1676160" cy="30481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Precondition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licopter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vailable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eather o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Helis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21304"/>
                  </a:solidFill>
                  <a:latin typeface="Arial"/>
                </a:rPr>
                <a:t>Subtask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lect 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ploy secu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52000" y="0"/>
            <a:ext cx="86374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I.3 (HTN) Planning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743200" y="4419360"/>
            <a:ext cx="6261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s to decompose tas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Each method may have preconditions                (e.g., helicopters available)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Need to resolve interactions                                 (e.g., deploy security force first)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If necessary, backtrack and try other methods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714F-DC7A-4A25-AE6D-F944A3972811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2362320" y="5029200"/>
            <a:ext cx="4495680" cy="328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362320" y="3124080"/>
            <a:ext cx="5181480" cy="540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I. 4 How to Agentize SHOP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Helvetica Black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Geneva"/>
              </a:rPr>
              <a:t>First, extend </a:t>
            </a:r>
            <a:r>
              <a:rPr b="1" lang="en-US" sz="2500" spc="-1" strike="noStrike">
                <a:solidFill>
                  <a:srgbClr val="ff0000"/>
                </a:solidFill>
                <a:latin typeface="Geneva"/>
              </a:rPr>
              <a:t>SHOP’s methods</a:t>
            </a:r>
            <a:r>
              <a:rPr b="0" lang="en-US" sz="2500" spc="-1" strike="noStrike">
                <a:solidFill>
                  <a:srgbClr val="000000"/>
                </a:solidFill>
                <a:latin typeface="Geneva"/>
              </a:rPr>
              <a:t> and operators to incorporate </a:t>
            </a:r>
            <a:r>
              <a:rPr b="1" lang="en-US" sz="2500" spc="-1" strike="noStrike">
                <a:solidFill>
                  <a:srgbClr val="800000"/>
                </a:solidFill>
                <a:latin typeface="Geneva"/>
              </a:rPr>
              <a:t>code ca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neva"/>
              </a:rPr>
              <a:t>An </a:t>
            </a:r>
            <a:r>
              <a:rPr b="1" lang="en-US" sz="2100" spc="-1" strike="noStrike">
                <a:solidFill>
                  <a:srgbClr val="a52a2a"/>
                </a:solidFill>
                <a:latin typeface="Times New Roman"/>
              </a:rPr>
              <a:t>agentized method </a:t>
            </a:r>
            <a:r>
              <a:rPr b="0" lang="en-US" sz="2100" spc="-1" strike="noStrike">
                <a:solidFill>
                  <a:srgbClr val="000000"/>
                </a:solidFill>
                <a:latin typeface="Geneva"/>
              </a:rPr>
              <a:t>is an expression of the form</a:t>
            </a:r>
            <a:endParaRPr b="0" lang="en-US" sz="2100" spc="-1" strike="noStrike">
              <a:solidFill>
                <a:srgbClr val="000000"/>
              </a:solidFill>
              <a:latin typeface="Helvetica Black"/>
            </a:endParaRPr>
          </a:p>
          <a:p>
            <a:pPr lvl="1" marL="727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:AgentMeth </a:t>
            </a:r>
            <a:r>
              <a:rPr b="1" lang="en-US" sz="2100" spc="-1" strike="noStrike">
                <a:solidFill>
                  <a:srgbClr val="006400"/>
                </a:solidFill>
                <a:latin typeface="Times New Roman"/>
              </a:rPr>
              <a:t>h</a:t>
            </a:r>
            <a:r>
              <a:rPr b="0" lang="en-US" sz="2100" spc="-1" strike="noStrike">
                <a:solidFill>
                  <a:srgbClr val="006400"/>
                </a:solidFill>
                <a:latin typeface="Times New Roman"/>
              </a:rPr>
              <a:t>  </a:t>
            </a:r>
            <a:r>
              <a:rPr b="0" lang="en-US" sz="2100" spc="-1" strike="noStrike">
                <a:solidFill>
                  <a:srgbClr val="8b0a50"/>
                </a:solidFill>
                <a:latin typeface="Symbol"/>
                <a:ea typeface="Symbol"/>
              </a:rPr>
              <a:t>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Geneva"/>
              </a:rPr>
              <a:t>) where</a:t>
            </a:r>
            <a:r>
              <a:rPr b="1" lang="en-US" sz="2100" spc="-1" strike="noStrike">
                <a:solidFill>
                  <a:srgbClr val="0064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Helvetica Black"/>
            </a:endParaRPr>
          </a:p>
          <a:p>
            <a:pPr lvl="3" marL="1568160" indent="-223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400"/>
                </a:solidFill>
                <a:latin typeface="Times New Roman"/>
              </a:rPr>
              <a:t>h</a:t>
            </a:r>
            <a:r>
              <a:rPr b="0" lang="en-US" sz="1900" spc="-1" strike="noStrike">
                <a:solidFill>
                  <a:srgbClr val="0064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Geneva"/>
              </a:rPr>
              <a:t>(the method’s head) is a </a:t>
            </a:r>
            <a:r>
              <a:rPr b="1" lang="en-US" sz="1900" spc="-1" strike="noStrike">
                <a:solidFill>
                  <a:srgbClr val="006600"/>
                </a:solidFill>
                <a:latin typeface="Geneva"/>
              </a:rPr>
              <a:t>compound task</a:t>
            </a:r>
            <a:r>
              <a:rPr b="0" lang="en-US" sz="1900" spc="-1" strike="noStrike">
                <a:solidFill>
                  <a:srgbClr val="000000"/>
                </a:solidFill>
                <a:latin typeface="Geneva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b0a50"/>
                </a:solidFill>
                <a:latin typeface="Symbol"/>
                <a:ea typeface="Symbol"/>
              </a:rPr>
              <a:t></a:t>
            </a:r>
            <a:r>
              <a:rPr b="0" lang="en-US" sz="1900" spc="-1" strike="noStrike">
                <a:solidFill>
                  <a:srgbClr val="8b0a50"/>
                </a:solidFill>
                <a:latin typeface="Symbol"/>
                <a:ea typeface="Symbol"/>
              </a:rPr>
              <a:t></a:t>
            </a:r>
            <a:r>
              <a:rPr b="0" lang="en-US" sz="1900" spc="-1" strike="noStrike">
                <a:solidFill>
                  <a:srgbClr val="000000"/>
                </a:solidFill>
                <a:latin typeface="Geneva"/>
              </a:rPr>
              <a:t>(the method’s preconditions) is a </a:t>
            </a:r>
            <a:r>
              <a:rPr b="1" lang="en-US" sz="1900" spc="-1" strike="noStrike">
                <a:solidFill>
                  <a:srgbClr val="800000"/>
                </a:solidFill>
                <a:latin typeface="Geneva"/>
              </a:rPr>
              <a:t>code call condi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Geneva"/>
              </a:rPr>
              <a:t>is a task lis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neva"/>
              </a:rPr>
              <a:t>An </a:t>
            </a:r>
            <a:r>
              <a:rPr b="1" lang="en-US" sz="2100" spc="-1" strike="noStrike">
                <a:solidFill>
                  <a:srgbClr val="a52a2a"/>
                </a:solidFill>
                <a:latin typeface="Times New Roman"/>
              </a:rPr>
              <a:t>agentized operator </a:t>
            </a:r>
            <a:r>
              <a:rPr b="0" lang="en-US" sz="2100" spc="-1" strike="noStrike">
                <a:solidFill>
                  <a:srgbClr val="000000"/>
                </a:solidFill>
                <a:latin typeface="Geneva"/>
              </a:rPr>
              <a:t>is an expression of the form </a:t>
            </a:r>
            <a:endParaRPr b="0" lang="en-US" sz="2100" spc="-1" strike="noStrike">
              <a:solidFill>
                <a:srgbClr val="000000"/>
              </a:solidFill>
              <a:latin typeface="Helvetica Black"/>
            </a:endParaRPr>
          </a:p>
          <a:p>
            <a:pPr lvl="1" marL="727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Geneva"/>
              </a:rPr>
              <a:t>(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:AgentOp</a:t>
            </a:r>
            <a:r>
              <a:rPr b="0" lang="en-US" sz="21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100" spc="-1" strike="noStrike">
                <a:solidFill>
                  <a:srgbClr val="006400"/>
                </a:solidFill>
                <a:latin typeface="Times New Roman"/>
              </a:rPr>
              <a:t>h</a:t>
            </a:r>
            <a:r>
              <a:rPr b="0" lang="en-US" sz="2100" spc="-1" strike="noStrike">
                <a:solidFill>
                  <a:srgbClr val="006400"/>
                </a:solidFill>
                <a:latin typeface="Times New Roman"/>
              </a:rPr>
              <a:t>  </a:t>
            </a:r>
            <a:r>
              <a:rPr b="1" lang="en-US" sz="2100" spc="-1" strike="noStrike">
                <a:solidFill>
                  <a:srgbClr val="8b0a50"/>
                </a:solidFill>
                <a:latin typeface="Symbol"/>
                <a:ea typeface="Symbol"/>
              </a:rPr>
              <a:t>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Geneva"/>
              </a:rPr>
              <a:t>add  </a:t>
            </a:r>
            <a:r>
              <a:rPr b="1" lang="en-US" sz="2100" spc="-1" strike="noStrike">
                <a:solidFill>
                  <a:srgbClr val="8b0a50"/>
                </a:solidFill>
                <a:latin typeface="Symbol"/>
                <a:ea typeface="Symbol"/>
              </a:rPr>
              <a:t>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Geneva"/>
              </a:rPr>
              <a:t>del</a:t>
            </a:r>
            <a:r>
              <a:rPr b="0" lang="en-US" sz="2100" spc="-1" strike="noStrike">
                <a:solidFill>
                  <a:srgbClr val="000000"/>
                </a:solidFill>
                <a:latin typeface="Geneva"/>
              </a:rPr>
              <a:t>) where</a:t>
            </a:r>
            <a:endParaRPr b="0" lang="en-US" sz="2100" spc="-1" strike="noStrike">
              <a:solidFill>
                <a:srgbClr val="000000"/>
              </a:solidFill>
              <a:latin typeface="Helvetica Black"/>
            </a:endParaRPr>
          </a:p>
          <a:p>
            <a:pPr lvl="3" marL="1568160" indent="-223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400"/>
                </a:solidFill>
                <a:latin typeface="Times New Roman"/>
              </a:rPr>
              <a:t>h</a:t>
            </a:r>
            <a:r>
              <a:rPr b="0" lang="en-US" sz="1900" spc="-1" strike="noStrike">
                <a:solidFill>
                  <a:srgbClr val="0064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Geneva"/>
              </a:rPr>
              <a:t>(the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ea</a:t>
            </a:r>
            <a:r>
              <a:rPr b="0" lang="en-US" sz="1900" spc="-1" strike="noStrike">
                <a:solidFill>
                  <a:srgbClr val="000000"/>
                </a:solidFill>
                <a:latin typeface="Geneva"/>
              </a:rPr>
              <a:t>d) is a primitive tas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b0a50"/>
                </a:solidFill>
                <a:latin typeface="Symbol"/>
                <a:ea typeface="Symbol"/>
              </a:rPr>
              <a:t>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neva"/>
              </a:rPr>
              <a:t>add </a:t>
            </a:r>
            <a:r>
              <a:rPr b="0" lang="en-US" sz="1900" spc="-1" strike="noStrike">
                <a:solidFill>
                  <a:srgbClr val="000000"/>
                </a:solidFill>
                <a:latin typeface="Geneva"/>
              </a:rPr>
              <a:t>and </a:t>
            </a:r>
            <a:r>
              <a:rPr b="1" lang="en-US" sz="1900" spc="-1" strike="noStrike">
                <a:solidFill>
                  <a:srgbClr val="8b0a50"/>
                </a:solidFill>
                <a:latin typeface="Symbol"/>
                <a:ea typeface="Symbol"/>
              </a:rPr>
              <a:t>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neva"/>
              </a:rPr>
              <a:t>del </a:t>
            </a:r>
            <a:r>
              <a:rPr b="0" lang="en-US" sz="1900" spc="-1" strike="noStrike">
                <a:solidFill>
                  <a:srgbClr val="000000"/>
                </a:solidFill>
                <a:latin typeface="Geneva"/>
              </a:rPr>
              <a:t>are code call condi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neva"/>
              </a:rPr>
              <a:t>The set of variables in </a:t>
            </a:r>
            <a:r>
              <a:rPr b="1" lang="en-US" sz="1900" spc="-1" strike="noStrike">
                <a:solidFill>
                  <a:srgbClr val="8b0a50"/>
                </a:solidFill>
                <a:latin typeface="Symbol"/>
                <a:ea typeface="Symbol"/>
              </a:rPr>
              <a:t>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neva"/>
              </a:rPr>
              <a:t>add </a:t>
            </a:r>
            <a:r>
              <a:rPr b="0" lang="en-US" sz="1900" spc="-1" strike="noStrike">
                <a:solidFill>
                  <a:srgbClr val="000000"/>
                </a:solidFill>
                <a:latin typeface="Geneva"/>
              </a:rPr>
              <a:t>and </a:t>
            </a:r>
            <a:r>
              <a:rPr b="1" lang="en-US" sz="1900" spc="-1" strike="noStrike">
                <a:solidFill>
                  <a:srgbClr val="8b0a50"/>
                </a:solidFill>
                <a:latin typeface="Symbol"/>
                <a:ea typeface="Symbol"/>
              </a:rPr>
              <a:t>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Geneva"/>
              </a:rPr>
              <a:t>del </a:t>
            </a:r>
            <a:r>
              <a:rPr b="0" lang="en-US" sz="1900" spc="-1" strike="noStrike">
                <a:solidFill>
                  <a:srgbClr val="000000"/>
                </a:solidFill>
                <a:latin typeface="Geneva"/>
              </a:rPr>
              <a:t>is a subset of the set of variables in </a:t>
            </a:r>
            <a:r>
              <a:rPr b="1" lang="en-US" sz="1900" spc="-1" strike="noStrike">
                <a:solidFill>
                  <a:srgbClr val="006400"/>
                </a:solidFill>
                <a:latin typeface="Times New Roman"/>
              </a:rPr>
              <a:t>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D574-6F92-497F-8896-6B8A4F3DFA3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4572000" y="1143000"/>
            <a:ext cx="3962520" cy="411480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2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I.5 The A-SHOP Algorithm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3581280" cy="4952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neva"/>
              </a:rPr>
              <a:t>Theorem: </a:t>
            </a:r>
            <a:r>
              <a:rPr b="0" lang="en-US" sz="2100" spc="-1" strike="noStrike">
                <a:solidFill>
                  <a:srgbClr val="000000"/>
                </a:solidFill>
                <a:latin typeface="Geneva"/>
              </a:rPr>
              <a:t>Let D be a set of agentized methods and operators.</a:t>
            </a:r>
            <a:r>
              <a:rPr b="0" lang="en-US" sz="2100" spc="-1" strike="noStrike">
                <a:solidFill>
                  <a:srgbClr val="000000"/>
                </a:solidFill>
                <a:latin typeface="Geneva"/>
              </a:rPr>
              <a:t>If the add/delete-lists </a:t>
            </a:r>
            <a:r>
              <a:rPr b="0" lang="en-US" sz="2100" spc="-1" strike="noStrike">
                <a:solidFill>
                  <a:srgbClr val="000000"/>
                </a:solidFill>
                <a:latin typeface="Geneva"/>
              </a:rPr>
              <a:t>are </a:t>
            </a:r>
            <a:r>
              <a:rPr b="1" lang="en-US" sz="2100" spc="-1" strike="noStrike">
                <a:solidFill>
                  <a:srgbClr val="000000"/>
                </a:solidFill>
                <a:latin typeface="Geneva"/>
              </a:rPr>
              <a:t>strongly safe</a:t>
            </a:r>
            <a:r>
              <a:rPr b="0" lang="en-US" sz="21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1" lang="en-US" sz="2100" spc="-1" strike="noStrike">
                <a:solidFill>
                  <a:srgbClr val="000000"/>
                </a:solidFill>
                <a:latin typeface="Geneva"/>
              </a:rPr>
              <a:t>then </a:t>
            </a: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A-SHOP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Geneva"/>
              </a:rPr>
              <a:t>is sound and complete</a:t>
            </a:r>
            <a:r>
              <a:rPr b="1" lang="en-US" sz="21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Geneva"/>
              </a:rPr>
              <a:t>(1) </a:t>
            </a:r>
            <a:r>
              <a:rPr b="1" lang="en-US" sz="2100" spc="-1" strike="noStrike">
                <a:solidFill>
                  <a:srgbClr val="ff0000"/>
                </a:solidFill>
                <a:latin typeface="Geneva"/>
              </a:rPr>
              <a:t>every plan returned by</a:t>
            </a:r>
            <a:r>
              <a:rPr b="1" lang="en-US" sz="2100" spc="-1" strike="noStrike">
                <a:solidFill>
                  <a:srgbClr val="000000"/>
                </a:solidFill>
                <a:latin typeface="Geneva"/>
              </a:rPr>
              <a:t>      </a:t>
            </a:r>
            <a:r>
              <a:rPr b="1" lang="en-US" sz="2100" spc="-1" strike="noStrike">
                <a:solidFill>
                  <a:srgbClr val="006600"/>
                </a:solidFill>
                <a:latin typeface="Geneva"/>
              </a:rPr>
              <a:t>A-SHOP</a:t>
            </a:r>
            <a:r>
              <a:rPr b="1" lang="en-US" sz="21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Geneva"/>
              </a:rPr>
              <a:t>is correct</a:t>
            </a:r>
            <a:r>
              <a:rPr b="1" lang="en-US" sz="2100" spc="-1" strike="noStrike">
                <a:solidFill>
                  <a:srgbClr val="000000"/>
                </a:solidFill>
                <a:latin typeface="Geneva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Geneva"/>
              </a:rPr>
              <a:t>(2) </a:t>
            </a:r>
            <a:r>
              <a:rPr b="1" lang="en-US" sz="2100" spc="-1" strike="noStrike">
                <a:solidFill>
                  <a:srgbClr val="006600"/>
                </a:solidFill>
                <a:latin typeface="Geneva"/>
              </a:rPr>
              <a:t>A-SHOP</a:t>
            </a:r>
            <a:r>
              <a:rPr b="1" lang="en-US" sz="21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Geneva"/>
              </a:rPr>
              <a:t>is guaranteed</a:t>
            </a:r>
            <a:r>
              <a:rPr b="1" lang="en-US" sz="21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Geneva"/>
              </a:rPr>
              <a:t>to find a plan if it exists</a:t>
            </a:r>
            <a:r>
              <a:rPr b="1" lang="en-US" sz="21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4B9A-D91B-4CE3-8592-402F4703B2E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. 1Supply Chain  Scenario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162920" y="2057400"/>
            <a:ext cx="1143000" cy="603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467480" y="2286000"/>
            <a:ext cx="533520" cy="533520"/>
          </a:xfrm>
          <a:prstGeom prst="cube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400800" y="24382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2209680"/>
            <a:ext cx="990720" cy="6098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edi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715000" y="1905120"/>
            <a:ext cx="366840" cy="457200"/>
            <a:chOff x="5715000" y="1905120"/>
            <a:chExt cx="366840" cy="457200"/>
          </a:xfrm>
        </p:grpSpPr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5715000" y="1905120"/>
              <a:ext cx="366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 txBox="1"/>
            <p:nvPr/>
          </p:nvSpPr>
          <p:spPr>
            <a:xfrm>
              <a:off x="5715000" y="1905120"/>
              <a:ext cx="366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7391520" y="5105520"/>
            <a:ext cx="1143000" cy="603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7315200" y="4267080"/>
            <a:ext cx="1143000" cy="603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7238880" y="3276720"/>
            <a:ext cx="1143000" cy="603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620120" y="3352680"/>
            <a:ext cx="533160" cy="533520"/>
          </a:xfrm>
          <a:prstGeom prst="cube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96080" y="4419720"/>
            <a:ext cx="533520" cy="533160"/>
          </a:xfrm>
          <a:prstGeom prst="cube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96080" y="5257800"/>
            <a:ext cx="533520" cy="533520"/>
          </a:xfrm>
          <a:prstGeom prst="cube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400440" y="2819520"/>
            <a:ext cx="106668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6172200" y="2819520"/>
            <a:ext cx="137160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5866920" y="2819520"/>
            <a:ext cx="175284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466840" y="2581200"/>
            <a:ext cx="32256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85240" y="585792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ufa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54960" y="5334120"/>
            <a:ext cx="5590800" cy="824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urchasing agent sends a request to various supplier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gents asking for the earliest pickup window b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rt will fail, plus a $ cost. Suppliers provide this inf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3581280"/>
            <a:ext cx="1143000" cy="6098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urcha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343040" y="2514600"/>
            <a:ext cx="106668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3276720" y="1447920"/>
            <a:ext cx="534960" cy="974520"/>
          </a:xfrm>
          <a:prstGeom prst="rect">
            <a:avLst/>
          </a:prstGeom>
          <a:ln w="0">
            <a:noFill/>
          </a:ln>
        </p:spPr>
      </p:pic>
      <p:pic>
        <p:nvPicPr>
          <p:cNvPr id="165" name="bl00381_" descr=""/>
          <p:cNvPicPr/>
          <p:nvPr/>
        </p:nvPicPr>
        <p:blipFill>
          <a:blip r:embed="rId7"/>
          <a:stretch/>
        </p:blipFill>
        <p:spPr>
          <a:xfrm>
            <a:off x="2438280" y="2209680"/>
            <a:ext cx="777960" cy="435240"/>
          </a:xfrm>
          <a:prstGeom prst="rect">
            <a:avLst/>
          </a:prstGeom>
          <a:ln w="0">
            <a:noFill/>
          </a:ln>
        </p:spPr>
      </p:pic>
      <p:pic>
        <p:nvPicPr>
          <p:cNvPr id="166" name="bl00381_" descr=""/>
          <p:cNvPicPr/>
          <p:nvPr/>
        </p:nvPicPr>
        <p:blipFill>
          <a:blip r:embed="rId8"/>
          <a:stretch/>
        </p:blipFill>
        <p:spPr>
          <a:xfrm>
            <a:off x="2057400" y="2743200"/>
            <a:ext cx="777960" cy="4348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H="1" flipV="1">
            <a:off x="3581280" y="2362320"/>
            <a:ext cx="457200" cy="1218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3124080" y="2743200"/>
            <a:ext cx="609840" cy="838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895120" y="3200400"/>
            <a:ext cx="838440" cy="380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1981080"/>
            <a:ext cx="99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ppl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3105-8927-48C6-8148-B8B31DD6A0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I. 6 Implementing A-SHOP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s that are part of A-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Helvetica Black"/>
              </a:rPr>
              <a:t>Shop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: receives requests to create plans, and does task 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        decomposition to create those plans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Helvetica Black"/>
              </a:rPr>
              <a:t>CodeCallConditions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: checks code-call conditions for the 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Shop 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Helvetica Black"/>
              </a:rPr>
              <a:t>Monitor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: checks individual code calls within a code-call 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condition, and maintains changes to states made by 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Shop 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agent’s operators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s external to A-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Helvetica Black"/>
              </a:rPr>
              <a:t>Customer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: represents the user who invokes A-SHOP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Helvetica Black"/>
              </a:rPr>
              <a:t>PPT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: IMPACT agent invoked by A-SHOP to generate a 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      PowerPoint document containing the final plan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B445-AB7E-4578-8487-C5ADF65609F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I. 7 Info-Sources for A-SHOP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sou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Helvetica Black"/>
              </a:rPr>
              <a:t>Transport Authority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: maintains information about assets available at different locations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Helvetica Black"/>
              </a:rPr>
              <a:t>Weather Authority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: maintains information about weather conditions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Helvetica Black"/>
              </a:rPr>
              <a:t>Airport Authority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: maintains information about assets available at different locations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nformation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Helvetica Black"/>
              </a:rPr>
              <a:t>Situation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: maintains information gathered during planning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Helvetica Black"/>
              </a:rPr>
              <a:t>Math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: do mathematical calculations needed during planning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-SHOP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erates agents on-the-f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A039-6ABF-46A2-B90D-3C8662A6C4A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I. 8 Info-Sources for A-SHOP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sou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Transport Authority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: maintains information about assets available at different locations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Weather Authority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: maintains information about weather conditions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Airport Authority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: maintains information about assets available at different locations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nformation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Situation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: maintains information gathered during planning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Math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: do mathematical calculations needed during planning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-SHOP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erates agents on-the-f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20EF-87E8-4876-86F2-FE06F3565DE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I. 9 Results (Memoization)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649" name="result-2delay-l" descr=""/>
          <p:cNvPicPr/>
          <p:nvPr/>
        </p:nvPicPr>
        <p:blipFill>
          <a:blip r:embed="rId1"/>
          <a:stretch/>
        </p:blipFill>
        <p:spPr>
          <a:xfrm>
            <a:off x="1004760" y="1066680"/>
            <a:ext cx="713268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DB5C-879A-4A09-A56C-2B9A6718116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II.10 Results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ew optimiz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time is spent to evaluate code call conditions (network time) rather than for the planning it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ore specific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w can a set of code call conditions processed more efficient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D194-D5F0-4E08-9A22-AFE8501B2DD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66320" y="630000"/>
            <a:ext cx="7620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V. Scaling agents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 pronged strate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elvetica Black"/>
              </a:rPr>
              <a:t>Regular agents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Helvetica Black"/>
              </a:rPr>
              <a:t>restrict syntax of agent parts to guarantee </a:t>
            </a:r>
            <a:r>
              <a:rPr b="1" lang="en-US" sz="1800" spc="-1" strike="noStrike">
                <a:solidFill>
                  <a:srgbClr val="ff0000"/>
                </a:solidFill>
                <a:latin typeface="Helvetica Black"/>
              </a:rPr>
              <a:t>polynomial evaluation</a:t>
            </a:r>
            <a:r>
              <a:rPr b="1" lang="en-US" sz="1800" spc="-1" strike="noStrike">
                <a:solidFill>
                  <a:srgbClr val="000000"/>
                </a:solidFill>
                <a:latin typeface="Helvetica Black"/>
              </a:rPr>
              <a:t>. Regular agents only evaluate certain things like code call conditions (CCC’s) at run time.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elvetica Black"/>
              </a:rPr>
              <a:t>Partitioning CCC’s</a:t>
            </a:r>
            <a:r>
              <a:rPr b="1" lang="en-US" sz="1800" spc="-1" strike="noStrike">
                <a:solidFill>
                  <a:srgbClr val="000000"/>
                </a:solidFill>
                <a:latin typeface="Helvetica Black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Given a large set of CCCs ( ~ 1000) to process, determine ways of partitioning into smaller sets of manageable size (~20).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elvetica Black"/>
              </a:rPr>
              <a:t>Merging CCC’s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Helvetica Black"/>
              </a:rPr>
              <a:t>Merge these code call conditions to eliminate any redundancy using a cost model.  Such merging only works well for relatively small sets of CCCs.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elvetica Black"/>
              </a:rPr>
              <a:t>Source Selection</a:t>
            </a:r>
            <a:r>
              <a:rPr b="1" lang="en-US" sz="1800" spc="-1" strike="noStrike">
                <a:solidFill>
                  <a:srgbClr val="000000"/>
                </a:solidFill>
                <a:latin typeface="Helvetica Black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 Select sources to handle merged CCCs so as to optimize performance criteria.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CAA8-00B4-4C3D-807A-097CB164799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V. Regular Agents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Compil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check syntax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check regularity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 conflict free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 strong saf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 deontic stra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 boundednes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unfol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ut agent progr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Compute initial status set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794120" y="1687320"/>
            <a:ext cx="374040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un-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Black"/>
              </a:rPr>
              <a:t>compute status set.</a:t>
            </a:r>
            <a:endParaRPr b="0" lang="en-US" sz="24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trigger actions</a:t>
            </a:r>
            <a:r>
              <a:rPr b="1" lang="en-US" sz="2000" spc="-1" strike="noStrike">
                <a:solidFill>
                  <a:srgbClr val="008000"/>
                </a:solidFill>
                <a:latin typeface="Helvetica Blac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Helvetica Black"/>
              </a:rPr>
              <a:t>incrementally compute status set</a:t>
            </a:r>
            <a:r>
              <a:rPr b="1" lang="en-US" sz="2000" spc="-1" strike="noStrike">
                <a:solidFill>
                  <a:srgbClr val="ff0000"/>
                </a:solidFill>
                <a:latin typeface="Helvetica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(algorithm developed, not implemented).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191120" y="2590920"/>
            <a:ext cx="914040" cy="2818800"/>
            <a:chOff x="4191120" y="2590920"/>
            <a:chExt cx="914040" cy="2818800"/>
          </a:xfrm>
        </p:grpSpPr>
        <p:sp>
          <p:nvSpPr>
            <p:cNvPr id="658" name=""/>
            <p:cNvSpPr/>
            <p:nvPr/>
          </p:nvSpPr>
          <p:spPr>
            <a:xfrm>
              <a:off x="4648320" y="2590920"/>
              <a:ext cx="114120" cy="2818800"/>
            </a:xfrm>
            <a:prstGeom prst="rect">
              <a:avLst/>
            </a:prstGeom>
            <a:solidFill>
              <a:srgbClr val="a1bd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762440" y="2590920"/>
              <a:ext cx="342720" cy="171000"/>
            </a:xfrm>
            <a:prstGeom prst="rightArrow">
              <a:avLst>
                <a:gd name="adj1" fmla="val 50000"/>
                <a:gd name="adj2" fmla="val 50105"/>
              </a:avLst>
            </a:prstGeom>
            <a:solidFill>
              <a:srgbClr val="a1bd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91120" y="5239080"/>
              <a:ext cx="457200" cy="170640"/>
            </a:xfrm>
            <a:prstGeom prst="leftArrow">
              <a:avLst>
                <a:gd name="adj1" fmla="val 50000"/>
                <a:gd name="adj2" fmla="val 66983"/>
              </a:avLst>
            </a:prstGeom>
            <a:solidFill>
              <a:srgbClr val="a1bd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ABA2-589E-42C7-83E0-A49213EA3F7B}" type="slidenum">
              <a:t>56</a:t>
            </a:fld>
          </a:p>
        </p:txBody>
      </p:sp>
    </p:spTree>
  </p:cSld>
  <p:transition>
    <p:zoom dir="in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V.1 Conflict freedom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4419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1bd69"/>
                </a:solidFill>
                <a:uFillTx/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the following tw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rou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Cou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Go,Ro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ccc</a:t>
            </a:r>
            <a:r>
              <a:rPr b="1" lang="en-US" sz="18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ti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Cou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Go,Ro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ccc</a:t>
            </a:r>
            <a:r>
              <a:rPr b="1" lang="en-US" sz="18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tion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n be conflict-fre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epending on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ccc</a:t>
            </a:r>
            <a:r>
              <a:rPr b="1" lang="en-US" sz="18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ccc</a:t>
            </a:r>
            <a:r>
              <a:rPr b="1" lang="en-US" sz="18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eing  true in the state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876560" y="990360"/>
            <a:ext cx="3740040" cy="51051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nd ru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Head1</a:t>
            </a:r>
            <a:r>
              <a:rPr b="1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Body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Head2</a:t>
            </a:r>
            <a:r>
              <a:rPr b="1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Body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fli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a state 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Helvetica Black"/>
              </a:rPr>
              <a:t>heads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of the two rules conflict, and 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Helvetica Black"/>
              </a:rPr>
              <a:t>ccc’s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in the bodies of the rules </a:t>
            </a:r>
            <a:r>
              <a:rPr b="1" lang="en-US" sz="1800" spc="-1" strike="noStrike">
                <a:solidFill>
                  <a:srgbClr val="003366"/>
                </a:solidFill>
                <a:latin typeface="Helvetica Black"/>
              </a:rPr>
              <a:t>are true</a:t>
            </a:r>
            <a:r>
              <a:rPr b="0" lang="en-US" sz="1800" spc="-1" strike="noStrike">
                <a:solidFill>
                  <a:srgbClr val="003366"/>
                </a:solidFill>
                <a:latin typeface="Helvetica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in the state, and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deontically consistent status set that makes the </a:t>
            </a:r>
            <a:r>
              <a:rPr b="1" lang="en-US" sz="1800" spc="-1" strike="noStrike">
                <a:solidFill>
                  <a:srgbClr val="003366"/>
                </a:solidFill>
                <a:latin typeface="Helvetica Black"/>
              </a:rPr>
              <a:t>action literals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in the bodies </a:t>
            </a:r>
            <a:r>
              <a:rPr b="1" lang="en-US" sz="1800" spc="-1" strike="noStrike">
                <a:solidFill>
                  <a:srgbClr val="003366"/>
                </a:solidFill>
                <a:latin typeface="Helvetica Black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elvetica Black"/>
              </a:rPr>
              <a:t>THEOREM:</a:t>
            </a:r>
            <a:r>
              <a:rPr b="0" lang="en-US" sz="1800" spc="-1" strike="noStrike">
                <a:solidFill>
                  <a:srgbClr val="ff0000"/>
                </a:solidFill>
                <a:latin typeface="Helvetica Black"/>
              </a:rPr>
              <a:t>  </a:t>
            </a:r>
            <a:r>
              <a:rPr b="1" lang="en-US" sz="1800" spc="-1" strike="noStrike">
                <a:solidFill>
                  <a:srgbClr val="003366"/>
                </a:solidFill>
                <a:latin typeface="Helvetica Black"/>
              </a:rPr>
              <a:t>Checking conflict freeness  is undecidable</a:t>
            </a:r>
            <a:r>
              <a:rPr b="0" lang="en-US" sz="1800" spc="-1" strike="noStrike">
                <a:solidFill>
                  <a:srgbClr val="003366"/>
                </a:solidFill>
                <a:latin typeface="Helvetica Blac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ed 4 differen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fficient condi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if satisfied, they all guarantee that underlying  set of rules is conflict f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4B0D-AD0A-4633-935D-2829E40EE56D}" type="slidenum">
              <a:t>57</a:t>
            </a:fld>
          </a:p>
        </p:txBody>
      </p:sp>
    </p:spTree>
  </p:cSld>
  <p:transition>
    <p:zoom dir="in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V.3 Conflict freedom performance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3740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Sufficient Cond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794120" y="990360"/>
            <a:ext cx="3740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Sufficient Cond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f12-BMcftWithCont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3686400" cy="2609640"/>
          </a:xfrm>
          <a:prstGeom prst="rect">
            <a:avLst/>
          </a:prstGeom>
          <a:ln w="0">
            <a:noFill/>
          </a:ln>
        </p:spPr>
      </p:pic>
      <p:pic>
        <p:nvPicPr>
          <p:cNvPr id="668" name="f12-HcftWithCont" descr=""/>
          <p:cNvPicPr/>
          <p:nvPr/>
        </p:nvPicPr>
        <p:blipFill>
          <a:blip r:embed="rId2"/>
          <a:stretch/>
        </p:blipFill>
        <p:spPr>
          <a:xfrm>
            <a:off x="5048280" y="2209680"/>
            <a:ext cx="4095720" cy="306720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838080" y="5410080"/>
            <a:ext cx="3048120" cy="642600"/>
          </a:xfrm>
          <a:prstGeom prst="rect">
            <a:avLst/>
          </a:prstGeom>
          <a:gradFill rotWithShape="0">
            <a:gsLst>
              <a:gs pos="0">
                <a:srgbClr val="fefe9e"/>
              </a:gs>
              <a:gs pos="100000">
                <a:srgbClr val="ffff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Helvetica Black"/>
              </a:rPr>
              <a:t>Even for many actio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Helvetica Black"/>
              </a:rPr>
              <a:t>it is fa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181480" y="5486400"/>
            <a:ext cx="3461040" cy="642600"/>
          </a:xfrm>
          <a:prstGeom prst="rect">
            <a:avLst/>
          </a:prstGeom>
          <a:gradFill rotWithShape="0">
            <a:gsLst>
              <a:gs pos="0">
                <a:srgbClr val="fefe8f"/>
              </a:gs>
              <a:gs pos="100000">
                <a:srgbClr val="ffff66"/>
              </a:gs>
            </a:gsLst>
            <a:lin ang="108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Helvetica Black"/>
              </a:rPr>
              <a:t>Even for many argumen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Helvetica Black"/>
              </a:rPr>
              <a:t> </a:t>
            </a:r>
            <a:r>
              <a:rPr b="1" lang="en-US" sz="1800" spc="-1" strike="noStrike">
                <a:solidFill>
                  <a:srgbClr val="081d58"/>
                </a:solidFill>
                <a:latin typeface="Helvetica Black"/>
              </a:rPr>
              <a:t>it is fa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3"/>
          <a:stretch/>
        </p:blipFill>
        <p:spPr>
          <a:xfrm>
            <a:off x="228600" y="2133720"/>
            <a:ext cx="1295280" cy="137160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153720" y="236232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Helvetica Black"/>
              </a:rPr>
              <a:t>0.008 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4"/>
          <a:stretch/>
        </p:blipFill>
        <p:spPr>
          <a:xfrm>
            <a:off x="4876920" y="2057400"/>
            <a:ext cx="1295280" cy="137160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4886640" y="22860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Helvetica Black"/>
              </a:rPr>
              <a:t>0.02 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4358-B080-453B-BC96-57F0049E69D5}" type="slidenum">
              <a:t>58</a:t>
            </a:fld>
          </a:p>
        </p:txBody>
      </p:sp>
    </p:spTree>
  </p:cSld>
  <p:transition>
    <p:zoom dir="in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V. Algorithms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Compil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check syntax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check regularity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conflict free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 strong saf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deontic stra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boundedn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fold out agent progr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Compute initial status set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794120" y="1687320"/>
            <a:ext cx="374040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un-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Black"/>
              </a:rPr>
              <a:t>compute status set.</a:t>
            </a:r>
            <a:endParaRPr b="0" lang="en-US" sz="24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trigger actions</a:t>
            </a:r>
            <a:r>
              <a:rPr b="1" lang="en-US" sz="2000" spc="-1" strike="noStrike">
                <a:solidFill>
                  <a:srgbClr val="008000"/>
                </a:solidFill>
                <a:latin typeface="Helvetica Blac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Helvetica Black"/>
              </a:rPr>
              <a:t>incrementally compute status set</a:t>
            </a:r>
            <a:r>
              <a:rPr b="1" lang="en-US" sz="2000" spc="-1" strike="noStrike">
                <a:solidFill>
                  <a:srgbClr val="ff0000"/>
                </a:solidFill>
                <a:latin typeface="Helvetica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(algorithm developed, not implemented).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4191120" y="2590920"/>
            <a:ext cx="914040" cy="2818800"/>
            <a:chOff x="4191120" y="2590920"/>
            <a:chExt cx="914040" cy="2818800"/>
          </a:xfrm>
        </p:grpSpPr>
        <p:sp>
          <p:nvSpPr>
            <p:cNvPr id="679" name=""/>
            <p:cNvSpPr/>
            <p:nvPr/>
          </p:nvSpPr>
          <p:spPr>
            <a:xfrm>
              <a:off x="4648320" y="2590920"/>
              <a:ext cx="114120" cy="2818800"/>
            </a:xfrm>
            <a:prstGeom prst="rect">
              <a:avLst/>
            </a:prstGeom>
            <a:solidFill>
              <a:srgbClr val="a1bd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762440" y="2590920"/>
              <a:ext cx="342720" cy="171000"/>
            </a:xfrm>
            <a:prstGeom prst="rightArrow">
              <a:avLst>
                <a:gd name="adj1" fmla="val 50000"/>
                <a:gd name="adj2" fmla="val 50105"/>
              </a:avLst>
            </a:prstGeom>
            <a:solidFill>
              <a:srgbClr val="a1bd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191120" y="5239080"/>
              <a:ext cx="457200" cy="170640"/>
            </a:xfrm>
            <a:prstGeom prst="leftArrow">
              <a:avLst>
                <a:gd name="adj1" fmla="val 50000"/>
                <a:gd name="adj2" fmla="val 66983"/>
              </a:avLst>
            </a:prstGeom>
            <a:solidFill>
              <a:srgbClr val="a1bd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949320" cy="577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55A1-A731-4AF0-8240-CF8CFB44E23E}" type="slidenum">
              <a:t>59</a:t>
            </a:fld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. 1 Supply Chain Scenario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162920" y="2057400"/>
            <a:ext cx="1143000" cy="603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467480" y="2286000"/>
            <a:ext cx="533520" cy="533520"/>
          </a:xfrm>
          <a:prstGeom prst="cube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400800" y="24382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10080" y="2209680"/>
            <a:ext cx="990720" cy="6098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edi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715000" y="1905120"/>
            <a:ext cx="366840" cy="457200"/>
            <a:chOff x="5715000" y="1905120"/>
            <a:chExt cx="366840" cy="45720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5715000" y="1905120"/>
              <a:ext cx="366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 txBox="1"/>
            <p:nvPr/>
          </p:nvSpPr>
          <p:spPr>
            <a:xfrm>
              <a:off x="5715000" y="1905120"/>
              <a:ext cx="366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7391520" y="5105520"/>
            <a:ext cx="1143000" cy="603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7315200" y="4267080"/>
            <a:ext cx="1143000" cy="603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7238880" y="3276720"/>
            <a:ext cx="1143000" cy="603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620120" y="3352680"/>
            <a:ext cx="533160" cy="533520"/>
          </a:xfrm>
          <a:prstGeom prst="cube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96080" y="4419720"/>
            <a:ext cx="533520" cy="533160"/>
          </a:xfrm>
          <a:prstGeom prst="cube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96080" y="5257800"/>
            <a:ext cx="533520" cy="533520"/>
          </a:xfrm>
          <a:prstGeom prst="cube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6400440" y="2819520"/>
            <a:ext cx="106668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6172200" y="2819520"/>
            <a:ext cx="137160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5866920" y="2819520"/>
            <a:ext cx="175284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66840" y="2581200"/>
            <a:ext cx="32256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85240" y="585792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ufa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8960" y="5715000"/>
            <a:ext cx="553752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urchasing agent obtains information on the Avail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d schedules of repair crews from the repair ag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3581280"/>
            <a:ext cx="1143000" cy="6098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urcha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343040" y="2514600"/>
            <a:ext cx="106668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3276720" y="1447920"/>
            <a:ext cx="534960" cy="974520"/>
          </a:xfrm>
          <a:prstGeom prst="rect">
            <a:avLst/>
          </a:prstGeom>
          <a:ln w="0">
            <a:noFill/>
          </a:ln>
        </p:spPr>
      </p:pic>
      <p:pic>
        <p:nvPicPr>
          <p:cNvPr id="194" name="bl00381_" descr=""/>
          <p:cNvPicPr/>
          <p:nvPr/>
        </p:nvPicPr>
        <p:blipFill>
          <a:blip r:embed="rId7"/>
          <a:stretch/>
        </p:blipFill>
        <p:spPr>
          <a:xfrm>
            <a:off x="2438280" y="2209680"/>
            <a:ext cx="777960" cy="435240"/>
          </a:xfrm>
          <a:prstGeom prst="rect">
            <a:avLst/>
          </a:prstGeom>
          <a:ln w="0">
            <a:noFill/>
          </a:ln>
        </p:spPr>
      </p:pic>
      <p:pic>
        <p:nvPicPr>
          <p:cNvPr id="195" name="bl00381_" descr=""/>
          <p:cNvPicPr/>
          <p:nvPr/>
        </p:nvPicPr>
        <p:blipFill>
          <a:blip r:embed="rId8"/>
          <a:stretch/>
        </p:blipFill>
        <p:spPr>
          <a:xfrm>
            <a:off x="2057400" y="2743200"/>
            <a:ext cx="777960" cy="4348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 flipH="1" flipV="1">
            <a:off x="3581280" y="2362320"/>
            <a:ext cx="457200" cy="1218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3124080" y="2743200"/>
            <a:ext cx="609840" cy="838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2895120" y="3200400"/>
            <a:ext cx="838440" cy="380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00200" y="1981080"/>
            <a:ext cx="99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ppl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5105520"/>
            <a:ext cx="990720" cy="6094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p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9"/>
          <a:stretch/>
        </p:blipFill>
        <p:spPr>
          <a:xfrm>
            <a:off x="3124080" y="5105520"/>
            <a:ext cx="441360" cy="6094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114800" y="41911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2D4F-9741-4628-A196-E72816A9D0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V.2 Safety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f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ndition on code call conditions that ensures that th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de call condition is evalu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eveloped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vably sound and complete algorithm for testing saf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1bd6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1bd69"/>
                </a:solidFill>
                <a:uFillTx/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de call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in(</a:t>
            </a:r>
            <a:r>
              <a:rPr b="0" lang="en-US" sz="2000" spc="-1" strike="noStrike">
                <a:solidFill>
                  <a:srgbClr val="003366"/>
                </a:solidFill>
                <a:latin typeface="Helvetica Black"/>
              </a:rPr>
              <a:t>RP</a:t>
            </a:r>
            <a:r>
              <a:rPr b="0" lang="en-US" sz="2000" spc="-1" strike="noStrike">
                <a:solidFill>
                  <a:srgbClr val="ff0000"/>
                </a:solidFill>
                <a:latin typeface="Helvetica Black"/>
              </a:rPr>
              <a:t>, terrain:getPlan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(</a:t>
            </a:r>
            <a:r>
              <a:rPr b="1" lang="en-US" sz="2000" spc="-1" strike="noStrike">
                <a:solidFill>
                  <a:srgbClr val="003366"/>
                </a:solidFill>
                <a:latin typeface="Helvetica Black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,</a:t>
            </a:r>
            <a:r>
              <a:rPr b="1" lang="en-US" sz="2000" spc="-1" strike="noStrike">
                <a:solidFill>
                  <a:srgbClr val="003366"/>
                </a:solidFill>
                <a:latin typeface="Helvetica Black"/>
              </a:rPr>
              <a:t>P2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,</a:t>
            </a:r>
            <a:r>
              <a:rPr b="1" lang="en-US" sz="2000" spc="-1" strike="noStrike">
                <a:solidFill>
                  <a:srgbClr val="003366"/>
                </a:solidFill>
                <a:latin typeface="Helvetica Black"/>
              </a:rPr>
              <a:t>Vehicle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)</a:t>
            </a:r>
            <a:r>
              <a:rPr b="0" lang="en-US" sz="2800" spc="-1" strike="noStrike">
                <a:solidFill>
                  <a:srgbClr val="ff0000"/>
                </a:solidFill>
                <a:latin typeface="Helvetica Blac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        &amp;                                               in(</a:t>
            </a:r>
            <a:r>
              <a:rPr b="0" lang="en-US" sz="2000" spc="-1" strike="noStrike">
                <a:solidFill>
                  <a:srgbClr val="003366"/>
                </a:solidFill>
                <a:latin typeface="Helvetica Black"/>
              </a:rPr>
              <a:t>RP’</a:t>
            </a:r>
            <a:r>
              <a:rPr b="0" lang="en-US" sz="2000" spc="-1" strike="noStrike">
                <a:solidFill>
                  <a:srgbClr val="ff0000"/>
                </a:solidFill>
                <a:latin typeface="Helvetica Black"/>
              </a:rPr>
              <a:t>, terrain:getPlan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(</a:t>
            </a:r>
            <a:r>
              <a:rPr b="1" lang="en-US" sz="2000" spc="-1" strike="noStrike">
                <a:solidFill>
                  <a:srgbClr val="003366"/>
                </a:solidFill>
                <a:latin typeface="Helvetica Black"/>
              </a:rPr>
              <a:t>P2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,</a:t>
            </a:r>
            <a:r>
              <a:rPr b="0" lang="en-US" sz="2000" spc="-1" strike="noStrike">
                <a:solidFill>
                  <a:srgbClr val="003366"/>
                </a:solidFill>
                <a:latin typeface="Helvetica Black"/>
              </a:rPr>
              <a:t>P3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,</a:t>
            </a:r>
            <a:r>
              <a:rPr b="1" lang="en-US" sz="2000" spc="-1" strike="noStrike">
                <a:solidFill>
                  <a:srgbClr val="003366"/>
                </a:solidFill>
                <a:latin typeface="Helvetica Black"/>
              </a:rPr>
              <a:t>Vehicle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)</a:t>
            </a:r>
            <a:r>
              <a:rPr b="0" lang="en-US" sz="2800" spc="-1" strike="noStrike">
                <a:solidFill>
                  <a:srgbClr val="ff0000"/>
                </a:solidFill>
                <a:latin typeface="Helvetica Blac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       &amp;                                                in(</a:t>
            </a:r>
            <a:r>
              <a:rPr b="0" lang="en-US" sz="2000" spc="-1" strike="noStrike">
                <a:solidFill>
                  <a:srgbClr val="003366"/>
                </a:solidFill>
                <a:latin typeface="Helvetica Black"/>
              </a:rPr>
              <a:t>P3</a:t>
            </a:r>
            <a:r>
              <a:rPr b="0" lang="en-US" sz="2000" spc="-1" strike="noStrike">
                <a:solidFill>
                  <a:srgbClr val="ff0000"/>
                </a:solidFill>
                <a:latin typeface="Helvetica Black"/>
              </a:rPr>
              <a:t>, coord:nextPoint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(</a:t>
            </a:r>
            <a:r>
              <a:rPr b="1" lang="en-US" sz="2000" spc="-1" strike="noStrike">
                <a:solidFill>
                  <a:srgbClr val="003366"/>
                </a:solidFill>
                <a:latin typeface="Helvetica Black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,</a:t>
            </a:r>
            <a:r>
              <a:rPr b="1" lang="en-US" sz="2000" spc="-1" strike="noStrike">
                <a:solidFill>
                  <a:srgbClr val="003366"/>
                </a:solidFill>
                <a:latin typeface="Helvetica Black"/>
              </a:rPr>
              <a:t>P2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,</a:t>
            </a:r>
            <a:r>
              <a:rPr b="1" lang="en-US" sz="2000" spc="-1" strike="noStrike">
                <a:solidFill>
                  <a:srgbClr val="003366"/>
                </a:solidFill>
                <a:latin typeface="Helvetica Black"/>
              </a:rPr>
              <a:t>Goal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)</a:t>
            </a:r>
            <a:r>
              <a:rPr b="0" lang="en-US" sz="2800" spc="-1" strike="noStrike">
                <a:solidFill>
                  <a:srgbClr val="ff0000"/>
                </a:solidFill>
                <a:latin typeface="Helvetica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f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f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ehicle, Go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given: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order the cc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35BE-9530-4ED2-9B23-577531922EC4}" type="slidenum">
              <a:t>60</a:t>
            </a:fld>
          </a:p>
        </p:txBody>
      </p:sp>
    </p:spTree>
  </p:cSld>
  <p:transition>
    <p:zoom dir="in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V.2 Strong safety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3740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rong safe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quires not only that queries are executable, but that their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valuation terminates in finite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ecu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(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math:ge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&amp;                     in(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math:squ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&amp;              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xecuted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left-to-r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es not termin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f reordered, it do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t is strongly sa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is no finiteness-checking!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94120" y="990360"/>
            <a:ext cx="3740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ing an  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finiteness t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 listing all code calls returning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fini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s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a provably correct  algorithm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lynomially check strong saf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 cc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lists code calls and a binding pattern for the variables involved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ath:geq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   ($)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ath:fc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X,Y,Z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    (X,$,Z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cation of the safety algorithm: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afety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Look-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able. (Linear in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ize(cc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linear 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ze(tabl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A22D-C70B-4F6D-BED2-C4891D7B64F3}" type="slidenum">
              <a:t>61</a:t>
            </a:fld>
          </a:p>
        </p:txBody>
      </p:sp>
    </p:spTree>
  </p:cSld>
  <p:transition>
    <p:zoom dir="in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V.2 Example/Performance of </a:t>
            </a:r>
            <a:br>
              <a:rPr sz="3200"/>
            </a:b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(strong) safety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3740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a1bd6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a1bd69"/>
                </a:solidFill>
                <a:uFillTx/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                     Code call condition ccc with up to 20 conjun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oint in the gra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ixed # of conjuncts) is the result of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do </a:t>
            </a:r>
            <a:r>
              <a:rPr b="1" lang="en-US" sz="1800" spc="-1" strike="noStrike">
                <a:solidFill>
                  <a:srgbClr val="ff0000"/>
                </a:solidFill>
                <a:latin typeface="Helvetica Black"/>
              </a:rPr>
              <a:t>1000 runs</a:t>
            </a:r>
            <a:r>
              <a:rPr b="1" lang="en-US" sz="1800" spc="-1" strike="noStrike">
                <a:solidFill>
                  <a:srgbClr val="000000"/>
                </a:solidFill>
                <a:latin typeface="Helvetica Black"/>
              </a:rPr>
              <a:t> by </a:t>
            </a:r>
            <a:r>
              <a:rPr b="1" lang="en-US" sz="1800" spc="-1" strike="noStrike">
                <a:solidFill>
                  <a:srgbClr val="008000"/>
                </a:solidFill>
                <a:latin typeface="Helvetica Black"/>
              </a:rPr>
              <a:t>varying # of arguments, # of variables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(generate ccc randomly) and take the </a:t>
            </a:r>
            <a:r>
              <a:rPr b="0" lang="en-US" sz="1800" spc="-1" strike="noStrike">
                <a:solidFill>
                  <a:srgbClr val="ff0000"/>
                </a:solidFill>
                <a:latin typeface="Helvetica Black"/>
              </a:rPr>
              <a:t>average run time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elvetica Black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elvetica Black"/>
              </a:rPr>
              <a:t>safe_ccc is extremely fast</a:t>
            </a:r>
            <a:r>
              <a:rPr b="1" lang="en-US" sz="1800" spc="-1" strike="noStrike">
                <a:solidFill>
                  <a:srgbClr val="000000"/>
                </a:solidFill>
                <a:latin typeface="Helvetica Black"/>
              </a:rPr>
              <a:t>. Suggests that safety checking for programs containing 1000 rules can be done in 20-40 milliseconds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</p:txBody>
      </p:sp>
      <p:pic>
        <p:nvPicPr>
          <p:cNvPr id="690" name="f12-SafetyGr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4495680" cy="305748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2"/>
          <a:stretch/>
        </p:blipFill>
        <p:spPr>
          <a:xfrm>
            <a:off x="7821720" y="4419720"/>
            <a:ext cx="1322280" cy="181764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7873920" y="4724280"/>
            <a:ext cx="104796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Helvetica Black"/>
              </a:rPr>
              <a:t>20 conj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688640" y="1828800"/>
            <a:ext cx="7704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Helvetica Black"/>
              </a:rPr>
              <a:t>0.0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3"/>
          <a:stretch/>
        </p:blipFill>
        <p:spPr>
          <a:xfrm>
            <a:off x="4572000" y="1523880"/>
            <a:ext cx="116352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949B-BA83-40C9-A2E2-150614B2D07A}" type="slidenum">
              <a:t>62</a:t>
            </a:fld>
          </a:p>
        </p:txBody>
      </p:sp>
    </p:spTree>
  </p:cSld>
  <p:transition>
    <p:zoom dir="in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V. Algorithms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Compil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check syntax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check regularity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conflict free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strong saf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 deontic stra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boundedn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fold out agent progr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Compute initial status set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794120" y="1687320"/>
            <a:ext cx="374040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un-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Black"/>
              </a:rPr>
              <a:t>compute status set.</a:t>
            </a:r>
            <a:endParaRPr b="0" lang="en-US" sz="24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trigger actions</a:t>
            </a:r>
            <a:r>
              <a:rPr b="1" lang="en-US" sz="2000" spc="-1" strike="noStrike">
                <a:solidFill>
                  <a:srgbClr val="008000"/>
                </a:solidFill>
                <a:latin typeface="Helvetica Blac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Helvetica Black"/>
              </a:rPr>
              <a:t>incrementally compute status set</a:t>
            </a:r>
            <a:r>
              <a:rPr b="1" lang="en-US" sz="2000" spc="-1" strike="noStrike">
                <a:solidFill>
                  <a:srgbClr val="ff0000"/>
                </a:solidFill>
                <a:latin typeface="Helvetica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(algorithm developed, not implemented).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4191120" y="2590920"/>
            <a:ext cx="990000" cy="2818800"/>
            <a:chOff x="4191120" y="2590920"/>
            <a:chExt cx="990000" cy="2818800"/>
          </a:xfrm>
        </p:grpSpPr>
        <p:sp>
          <p:nvSpPr>
            <p:cNvPr id="699" name=""/>
            <p:cNvSpPr/>
            <p:nvPr/>
          </p:nvSpPr>
          <p:spPr>
            <a:xfrm>
              <a:off x="4686120" y="2590920"/>
              <a:ext cx="123480" cy="2818800"/>
            </a:xfrm>
            <a:prstGeom prst="rect">
              <a:avLst/>
            </a:prstGeom>
            <a:solidFill>
              <a:srgbClr val="a1bd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09960" y="2590920"/>
              <a:ext cx="371160" cy="171000"/>
            </a:xfrm>
            <a:prstGeom prst="rightArrow">
              <a:avLst>
                <a:gd name="adj1" fmla="val 50000"/>
                <a:gd name="adj2" fmla="val 54263"/>
              </a:avLst>
            </a:prstGeom>
            <a:solidFill>
              <a:srgbClr val="a1bd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91120" y="5239080"/>
              <a:ext cx="495000" cy="170640"/>
            </a:xfrm>
            <a:prstGeom prst="leftArrow">
              <a:avLst>
                <a:gd name="adj1" fmla="val 50000"/>
                <a:gd name="adj2" fmla="val 72521"/>
              </a:avLst>
            </a:prstGeom>
            <a:solidFill>
              <a:srgbClr val="a1bd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949320" cy="577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6F1B-9026-4E6A-8773-A765AFC76C9B}" type="slidenum">
              <a:t>63</a:t>
            </a:fld>
          </a:p>
        </p:txBody>
      </p:sp>
    </p:spTree>
  </p:cSld>
  <p:transition>
    <p:zoom dir="in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V.3 Deontic stratification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complex condition requiring that an action not b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fined negatively in terms of itsel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a1bd6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1bd69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Helvetica Black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compute(Loc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1800" spc="-1" strike="noStrike">
                <a:solidFill>
                  <a:srgbClr val="000000"/>
                </a:solidFill>
                <a:latin typeface="Helvetica Black"/>
              </a:rPr>
              <a:t> ¬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Helvetica Black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compute(Loc) , </a:t>
            </a:r>
            <a:r>
              <a:rPr b="0" lang="en-US" sz="1800" spc="-1" strike="noStrike">
                <a:solidFill>
                  <a:srgbClr val="003366"/>
                </a:solidFill>
                <a:latin typeface="Helvetica Black"/>
              </a:rPr>
              <a:t>misc1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Helvetica Black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compute(Loc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Helvetica Black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something(P), </a:t>
            </a:r>
            <a:r>
              <a:rPr b="0" lang="en-US" sz="1800" spc="-1" strike="noStrike">
                <a:solidFill>
                  <a:srgbClr val="003366"/>
                </a:solidFill>
                <a:latin typeface="Helvetica Black"/>
              </a:rPr>
              <a:t>misc2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Helvetica Black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something(P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1800" spc="-1" strike="noStrike">
                <a:solidFill>
                  <a:srgbClr val="000000"/>
                </a:solidFill>
                <a:latin typeface="Helvetica Black"/>
              </a:rPr>
              <a:t> ¬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Helvetica Black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compute(Loc), </a:t>
            </a:r>
            <a:r>
              <a:rPr b="0" lang="en-US" sz="1800" spc="-1" strike="noStrike">
                <a:solidFill>
                  <a:srgbClr val="003366"/>
                </a:solidFill>
                <a:latin typeface="Helvetica Black"/>
              </a:rPr>
              <a:t>misc3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Helvetica Black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compute(Loc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elvetica Black"/>
              </a:rPr>
              <a:t>¬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Helvetica Black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compute(Loc) , </a:t>
            </a:r>
            <a:r>
              <a:rPr b="0" lang="en-US" sz="1800" spc="-1" strike="noStrike">
                <a:solidFill>
                  <a:srgbClr val="003366"/>
                </a:solidFill>
                <a:latin typeface="Helvetica Black"/>
              </a:rPr>
              <a:t>misc4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Black"/>
              </a:rPr>
              <a:t>But the following is harmless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:                                                    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Helvetica Black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compute(Loc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elvetica Black"/>
              </a:rPr>
              <a:t>¬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Helvetica Black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compute(Loc) , </a:t>
            </a:r>
            <a:r>
              <a:rPr b="0" lang="en-US" sz="1800" spc="-1" strike="noStrike">
                <a:solidFill>
                  <a:srgbClr val="003366"/>
                </a:solidFill>
                <a:latin typeface="Helvetica Black"/>
              </a:rPr>
              <a:t>misc4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ontically strat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gram comes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nitely many str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egative dependenc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ad to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trictly lower str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7906-86BC-4CAB-B8C8-BDAD5EB4B223}" type="slidenum">
              <a:t>64</a:t>
            </a:fld>
          </a:p>
        </p:txBody>
      </p:sp>
    </p:spTree>
  </p:cSld>
  <p:transition>
    <p:zoom dir="in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V.3 Deontic stratification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3740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eveloped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lynomial algorith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evaluat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ontic stratifi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 based approa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gorith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provably correct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rforms w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results on the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4723920" y="1219320"/>
            <a:ext cx="4038840" cy="5029200"/>
          </a:xfrm>
          <a:prstGeom prst="rect">
            <a:avLst/>
          </a:prstGeom>
          <a:ln w="0">
            <a:noFill/>
          </a:ln>
        </p:spPr>
      </p:pic>
      <p:pic>
        <p:nvPicPr>
          <p:cNvPr id="708" name="F12-G1" descr=""/>
          <p:cNvPicPr/>
          <p:nvPr/>
        </p:nvPicPr>
        <p:blipFill>
          <a:blip r:embed="rId2"/>
          <a:stretch/>
        </p:blipFill>
        <p:spPr>
          <a:xfrm>
            <a:off x="5562720" y="1905120"/>
            <a:ext cx="2209680" cy="218124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3"/>
          <a:stretch/>
        </p:blipFill>
        <p:spPr>
          <a:xfrm>
            <a:off x="6858000" y="3352680"/>
            <a:ext cx="1828800" cy="251460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7086600" y="3809880"/>
            <a:ext cx="1143000" cy="1067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1d58"/>
                </a:solidFill>
                <a:latin typeface="Helvetica Black"/>
              </a:rPr>
              <a:t>Number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1d58"/>
                </a:solidFill>
                <a:latin typeface="Helvetica Black"/>
              </a:rPr>
              <a:t>rules: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4"/>
          <a:stretch/>
        </p:blipFill>
        <p:spPr>
          <a:xfrm>
            <a:off x="5257800" y="1371600"/>
            <a:ext cx="1106640" cy="152388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5285160" y="1676520"/>
            <a:ext cx="822240" cy="307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1d58"/>
                </a:solidFill>
                <a:latin typeface="Helvetica Black"/>
              </a:rPr>
              <a:t>0.26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1B9E-4B7A-4DAC-AF1C-CA394082BF32}" type="slidenum">
              <a:t>65</a:t>
            </a:fld>
          </a:p>
        </p:txBody>
      </p:sp>
    </p:spTree>
  </p:cSld>
  <p:transition>
    <p:zoom dir="in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egular agent program is one that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Helvetica Black"/>
              </a:rPr>
              <a:t>1: conflict free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Helvetica Black"/>
              </a:rPr>
              <a:t>2: strongly safe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Helvetica Black"/>
              </a:rPr>
              <a:t>3: deontically stratifiable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Helvetica Black"/>
              </a:rPr>
              <a:t>4: unfoldable </a:t>
            </a:r>
            <a:r>
              <a:rPr b="1" lang="en-US" sz="2000" spc="-1" strike="noStrike">
                <a:solidFill>
                  <a:srgbClr val="008000"/>
                </a:solidFill>
                <a:latin typeface="Helvetica Black"/>
              </a:rPr>
              <a:t>(see next slide)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Helvetica Black"/>
              </a:rPr>
              <a:t>Regular agents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 require that all components of the agent satisfy an appropriate mix of the above conditions (e.g., integrity constraints must have strongly safe bodies, etc.).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regular agent ha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iqu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rational status s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at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lex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computing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the above rational status se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 polynom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0612-604D-46C8-A684-3CAB719EA063}" type="slidenum">
              <a:t>66</a:t>
            </a:fld>
          </a:p>
        </p:txBody>
      </p:sp>
    </p:spTree>
  </p:cSld>
  <p:transition>
    <p:zoom dir="in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V. Algorithms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Compil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check syntax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check regularity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conflict free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strong saf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deontic stra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 boundednes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nfol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ut agent progr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Compute initial status set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94120" y="1687320"/>
            <a:ext cx="374040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un-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Black"/>
              </a:rPr>
              <a:t>compute status set.</a:t>
            </a:r>
            <a:endParaRPr b="0" lang="en-US" sz="24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trigger actions</a:t>
            </a:r>
            <a:r>
              <a:rPr b="1" lang="en-US" sz="2000" spc="-1" strike="noStrike">
                <a:solidFill>
                  <a:srgbClr val="008000"/>
                </a:solidFill>
                <a:latin typeface="Helvetica Blac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Helvetica Black"/>
              </a:rPr>
              <a:t>incrementally compute status set</a:t>
            </a:r>
            <a:r>
              <a:rPr b="1" lang="en-US" sz="2000" spc="-1" strike="noStrike">
                <a:solidFill>
                  <a:srgbClr val="ff0000"/>
                </a:solidFill>
                <a:latin typeface="Helvetica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(algorithm developed, not implemented).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4191120" y="2590920"/>
            <a:ext cx="990000" cy="2895120"/>
            <a:chOff x="4191120" y="2590920"/>
            <a:chExt cx="990000" cy="2895120"/>
          </a:xfrm>
        </p:grpSpPr>
        <p:sp>
          <p:nvSpPr>
            <p:cNvPr id="719" name=""/>
            <p:cNvSpPr/>
            <p:nvPr/>
          </p:nvSpPr>
          <p:spPr>
            <a:xfrm>
              <a:off x="4686120" y="2590920"/>
              <a:ext cx="123480" cy="2895120"/>
            </a:xfrm>
            <a:prstGeom prst="rect">
              <a:avLst/>
            </a:prstGeom>
            <a:solidFill>
              <a:srgbClr val="a1bd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09960" y="2590920"/>
              <a:ext cx="371160" cy="175680"/>
            </a:xfrm>
            <a:prstGeom prst="rightArrow">
              <a:avLst>
                <a:gd name="adj1" fmla="val 50000"/>
                <a:gd name="adj2" fmla="val 52818"/>
              </a:avLst>
            </a:prstGeom>
            <a:solidFill>
              <a:srgbClr val="a1bd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191120" y="5310720"/>
              <a:ext cx="495000" cy="175320"/>
            </a:xfrm>
            <a:prstGeom prst="leftArrow">
              <a:avLst>
                <a:gd name="adj1" fmla="val 50000"/>
                <a:gd name="adj2" fmla="val 70585"/>
              </a:avLst>
            </a:prstGeom>
            <a:solidFill>
              <a:srgbClr val="a1bd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949320" cy="577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DABC-891A-463F-9531-226D45FD70D9}" type="slidenum">
              <a:t>67</a:t>
            </a:fld>
          </a:p>
        </p:txBody>
      </p:sp>
    </p:spTree>
  </p:cSld>
  <p:transition>
    <p:zoom dir="in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V.5 Boundedness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3740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nsider the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(Loc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ome(P),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cc1      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ome(P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lse(Loc),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cc2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lse(P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c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nd let ccc3 be false in the s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stead of checking Do-actions at run-time we simplify the program at compile time in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(Loc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cc3, ccc2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ccc1                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ome(P) 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cc3, ccc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lse(P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c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pl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cessively in all rule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sitive action  ato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bod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oundednes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, eventually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 posi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dy atom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sapp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larger but simpler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794120" y="990360"/>
            <a:ext cx="3740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ls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decid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ener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developed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vably correct polynom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under suitable conditions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gori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f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gent pr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-time Comput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Start with those rules whose bodies contain onl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c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s or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eg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tion status ato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4C21-B2F9-4332-A836-2140637452DD}" type="slidenum">
              <a:t>68</a:t>
            </a:fld>
          </a:p>
        </p:txBody>
      </p:sp>
    </p:spTree>
  </p:cSld>
  <p:transition>
    <p:zoom dir="in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V.6 Unfolding Performance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3740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detailed study y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t enough agent programs available, not clear how to vary large number of parame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mple Progr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Logistics demo based on US Army War Reserve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Unfolding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Helvetica Black"/>
              </a:rPr>
              <a:t>0.82 sec            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(17 rules transformed into 30)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48320" y="106632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regular agent programs, we hav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veloped an algorith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takes the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sult of the unfolding ste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 input, and produces as output, a rational  status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algorithm ha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en implemen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erforms we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Black"/>
              </a:rPr>
              <a:t>Status Set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elvetica Black"/>
              </a:rPr>
              <a:t>29 sec   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Helvetica Black"/>
              </a:rPr>
              <a:t>Note</a:t>
            </a:r>
            <a:r>
              <a:rPr b="1" lang="en-US" sz="1800" spc="-1" strike="noStrike">
                <a:solidFill>
                  <a:srgbClr val="000000"/>
                </a:solidFill>
                <a:latin typeface="Helvetica Black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massive amounts of data resident in </a:t>
            </a:r>
            <a:r>
              <a:rPr b="1" lang="en-US" sz="1800" spc="-1" strike="noStrike">
                <a:solidFill>
                  <a:srgbClr val="ff0000"/>
                </a:solidFill>
                <a:latin typeface="Helvetica Black"/>
              </a:rPr>
              <a:t>flat (unindexed) Oracle files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were accessed and </a:t>
            </a:r>
            <a:r>
              <a:rPr b="1" lang="en-US" sz="1800" spc="-1" strike="noStrike">
                <a:solidFill>
                  <a:srgbClr val="ff0000"/>
                </a:solidFill>
                <a:latin typeface="Helvetica Black"/>
              </a:rPr>
              <a:t>network time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elvetica Black"/>
              </a:rPr>
              <a:t>(24 sec)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is included.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Black"/>
              </a:rPr>
              <a:t>Status Set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elvetica Black"/>
              </a:rPr>
              <a:t>5 sec + 24 sec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5E1E-0904-40F6-B1D0-8B89C36F3565}" type="slidenum">
              <a:t>69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. 1 Supply Chain Scenario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162920" y="2057400"/>
            <a:ext cx="1143000" cy="6033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467480" y="2286000"/>
            <a:ext cx="533520" cy="533520"/>
          </a:xfrm>
          <a:prstGeom prst="cube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400800" y="24382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10080" y="2209680"/>
            <a:ext cx="990720" cy="6098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edi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715000" y="1905120"/>
            <a:ext cx="366840" cy="457200"/>
            <a:chOff x="5715000" y="1905120"/>
            <a:chExt cx="366840" cy="457200"/>
          </a:xfrm>
        </p:grpSpPr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5715000" y="1905120"/>
              <a:ext cx="366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 txBox="1"/>
            <p:nvPr/>
          </p:nvSpPr>
          <p:spPr>
            <a:xfrm>
              <a:off x="5715000" y="1905120"/>
              <a:ext cx="366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7391520" y="5105520"/>
            <a:ext cx="1143000" cy="603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7315200" y="4267080"/>
            <a:ext cx="1143000" cy="603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7238880" y="3276720"/>
            <a:ext cx="1143000" cy="603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620120" y="3352680"/>
            <a:ext cx="533160" cy="533520"/>
          </a:xfrm>
          <a:prstGeom prst="cube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96080" y="4419720"/>
            <a:ext cx="533520" cy="533160"/>
          </a:xfrm>
          <a:prstGeom prst="cube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96080" y="5257800"/>
            <a:ext cx="533520" cy="533520"/>
          </a:xfrm>
          <a:prstGeom prst="cube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6400440" y="2819520"/>
            <a:ext cx="106668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6172200" y="2819520"/>
            <a:ext cx="137160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5866920" y="2819520"/>
            <a:ext cx="175284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466840" y="2581200"/>
            <a:ext cx="32256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85240" y="585792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ufa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98600" y="5715000"/>
            <a:ext cx="519768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urchasing agent contacts transportation vendors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rder to determine shipping schedules and cos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3581280"/>
            <a:ext cx="1143000" cy="6098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urcha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343040" y="2514600"/>
            <a:ext cx="106668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3276720" y="1447920"/>
            <a:ext cx="534960" cy="974520"/>
          </a:xfrm>
          <a:prstGeom prst="rect">
            <a:avLst/>
          </a:prstGeom>
          <a:ln w="0">
            <a:noFill/>
          </a:ln>
        </p:spPr>
      </p:pic>
      <p:pic>
        <p:nvPicPr>
          <p:cNvPr id="227" name="bl00381_" descr=""/>
          <p:cNvPicPr/>
          <p:nvPr/>
        </p:nvPicPr>
        <p:blipFill>
          <a:blip r:embed="rId7"/>
          <a:stretch/>
        </p:blipFill>
        <p:spPr>
          <a:xfrm>
            <a:off x="2438280" y="2209680"/>
            <a:ext cx="777960" cy="435240"/>
          </a:xfrm>
          <a:prstGeom prst="rect">
            <a:avLst/>
          </a:prstGeom>
          <a:ln w="0">
            <a:noFill/>
          </a:ln>
        </p:spPr>
      </p:pic>
      <p:pic>
        <p:nvPicPr>
          <p:cNvPr id="228" name="bl00381_" descr=""/>
          <p:cNvPicPr/>
          <p:nvPr/>
        </p:nvPicPr>
        <p:blipFill>
          <a:blip r:embed="rId8"/>
          <a:stretch/>
        </p:blipFill>
        <p:spPr>
          <a:xfrm>
            <a:off x="2057400" y="2743200"/>
            <a:ext cx="777960" cy="4348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flipH="1" flipV="1">
            <a:off x="3581280" y="2362320"/>
            <a:ext cx="457200" cy="1218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3124080" y="2743200"/>
            <a:ext cx="609840" cy="838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895120" y="3200400"/>
            <a:ext cx="838440" cy="380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9"/>
          <a:stretch/>
        </p:blipFill>
        <p:spPr>
          <a:xfrm>
            <a:off x="990720" y="3429000"/>
            <a:ext cx="761760" cy="2937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0"/>
          <a:stretch/>
        </p:blipFill>
        <p:spPr>
          <a:xfrm>
            <a:off x="838080" y="3276720"/>
            <a:ext cx="762120" cy="2934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1"/>
          <a:stretch/>
        </p:blipFill>
        <p:spPr>
          <a:xfrm>
            <a:off x="1066680" y="3809880"/>
            <a:ext cx="425520" cy="6858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2"/>
          <a:stretch/>
        </p:blipFill>
        <p:spPr>
          <a:xfrm>
            <a:off x="1219320" y="3962520"/>
            <a:ext cx="425160" cy="685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3"/>
          <a:stretch/>
        </p:blipFill>
        <p:spPr>
          <a:xfrm>
            <a:off x="1600200" y="4727520"/>
            <a:ext cx="838080" cy="433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4"/>
          <a:stretch/>
        </p:blipFill>
        <p:spPr>
          <a:xfrm>
            <a:off x="1752480" y="4879800"/>
            <a:ext cx="838440" cy="4334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855080" y="4114800"/>
            <a:ext cx="102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i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209680" y="3581280"/>
            <a:ext cx="1447920" cy="1447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599840" y="3581280"/>
            <a:ext cx="198108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523520" y="35812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1981080"/>
            <a:ext cx="99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ppl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5105520"/>
            <a:ext cx="990720" cy="6094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p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5"/>
          <a:stretch/>
        </p:blipFill>
        <p:spPr>
          <a:xfrm>
            <a:off x="3124080" y="5105520"/>
            <a:ext cx="441360" cy="6094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114800" y="41911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952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557-185E-4BB8-AD57-F73F45A7E3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V. Heavily Loaded Agents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cc1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patial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range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40,50,25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cc2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patial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range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40,50,50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409760" y="5334120"/>
            <a:ext cx="6324480" cy="684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spatial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range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x,y,z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ves all points in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at 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most z units away from (x,y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523880" y="1676520"/>
            <a:ext cx="6629400" cy="1079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n a set of  ccc’s (requests).                                               Instead of executing them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ne-at-a-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ind more efficient proced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295280" y="4191120"/>
            <a:ext cx="6553440" cy="539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early, ccc1 is a subset of ccc2 i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427D-044B-4CCD-8519-92B476640F60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V.1 The very idea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put from the agent develop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knows under which conditions which inclusions h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finition of a language for expressing these inclus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statements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varia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will be used as axioms from which new invariants can be dedu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stinguish Development/Deployment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s for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mpiling invariants at development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more costly than those used a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ployment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523880" y="1143000"/>
            <a:ext cx="640080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try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rge the reques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detecti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monalit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tween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F258-9D7D-44E5-A943-05494FE6D2F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V. 2 Main Definition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nvari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variant is an expression of th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ic  is an invariant condition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    (conjunctions of   </a:t>
            </a:r>
            <a:r>
              <a:rPr b="1" lang="en-US" sz="2000" spc="-1" strike="noStrike">
                <a:solidFill>
                  <a:srgbClr val="ff0000"/>
                </a:solidFill>
                <a:latin typeface="Helvetica Black"/>
              </a:rPr>
              <a:t>t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Helvetica Black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Helvetica Black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Helvetica Black"/>
              </a:rPr>
              <a:t>op</a:t>
            </a:r>
            <a:r>
              <a:rPr b="1" lang="en-US" sz="2000" spc="-1" strike="noStrike">
                <a:solidFill>
                  <a:srgbClr val="ff0000"/>
                </a:solidFill>
                <a:latin typeface="Helvetica Black"/>
              </a:rPr>
              <a:t> t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Helvetica Black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i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Helvetica Black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  are invariant expressions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(unions/intersections strongly safe  ccc’s)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</p:txBody>
      </p:sp>
      <p:sp>
        <p:nvSpPr>
          <p:cNvPr id="739" name=""/>
          <p:cNvSpPr/>
          <p:nvPr/>
        </p:nvSpPr>
        <p:spPr>
          <a:xfrm>
            <a:off x="1295280" y="4267080"/>
            <a:ext cx="6172200" cy="180036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T=T’ and X=X’ and Y=Y’ and Rad&lt;Rad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Helvetica Black"/>
              </a:rPr>
              <a:t>in(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Z</a:t>
            </a:r>
            <a:r>
              <a:rPr b="0" lang="en-US" sz="2000" spc="-1" strike="noStrike">
                <a:solidFill>
                  <a:srgbClr val="ff0000"/>
                </a:solidFill>
                <a:latin typeface="Helvetica Black"/>
              </a:rPr>
              <a:t>,</a:t>
            </a:r>
            <a:r>
              <a:rPr b="1" lang="en-US" sz="2000" spc="-1" strike="noStrike">
                <a:solidFill>
                  <a:srgbClr val="a50021"/>
                </a:solidFill>
                <a:latin typeface="Helvetica Black"/>
              </a:rPr>
              <a:t>spatial</a:t>
            </a:r>
            <a:r>
              <a:rPr b="0" lang="en-US" sz="2000" spc="-1" strike="noStrike">
                <a:solidFill>
                  <a:srgbClr val="a50021"/>
                </a:solidFill>
                <a:latin typeface="Helvetica Black"/>
              </a:rPr>
              <a:t>:</a:t>
            </a:r>
            <a:r>
              <a:rPr b="0" lang="en-US" sz="2000" spc="-1" strike="noStrike">
                <a:solidFill>
                  <a:srgbClr val="006600"/>
                </a:solidFill>
                <a:latin typeface="Helvetica Black"/>
              </a:rPr>
              <a:t>range(</a:t>
            </a:r>
            <a:r>
              <a:rPr b="1" lang="en-US" sz="1600" spc="-1" strike="noStrike">
                <a:solidFill>
                  <a:srgbClr val="000000"/>
                </a:solidFill>
                <a:latin typeface="Helvetica Black"/>
              </a:rPr>
              <a:t>T,X,Y,Rad</a:t>
            </a:r>
            <a:r>
              <a:rPr b="1" lang="en-US" sz="2000" spc="-1" strike="noStrike">
                <a:solidFill>
                  <a:srgbClr val="006600"/>
                </a:solidFill>
                <a:latin typeface="Helvetica Black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Helvetica Black"/>
              </a:rPr>
              <a:t>)</a:t>
            </a:r>
            <a:r>
              <a:rPr b="0" lang="en-US" sz="2000" spc="-1" strike="noStrike">
                <a:solidFill>
                  <a:srgbClr val="ff0000"/>
                </a:solidFill>
                <a:latin typeface="Helvetica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Helvetica Black"/>
              </a:rPr>
              <a:t>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Helvetica Black"/>
              </a:rPr>
              <a:t>subset</a:t>
            </a:r>
            <a:r>
              <a:rPr b="0" lang="en-US" sz="2000" spc="-1" strike="noStrike">
                <a:solidFill>
                  <a:srgbClr val="ff0000"/>
                </a:solidFill>
                <a:latin typeface="Helvetica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Helvetica Black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Helvetica Black"/>
              </a:rPr>
              <a:t>in(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W</a:t>
            </a:r>
            <a:r>
              <a:rPr b="0" lang="en-US" sz="2000" spc="-1" strike="noStrike">
                <a:solidFill>
                  <a:srgbClr val="ff0000"/>
                </a:solidFill>
                <a:latin typeface="Helvetica Black"/>
              </a:rPr>
              <a:t>,</a:t>
            </a:r>
            <a:r>
              <a:rPr b="1" lang="en-US" sz="2000" spc="-1" strike="noStrike">
                <a:solidFill>
                  <a:srgbClr val="990000"/>
                </a:solidFill>
                <a:latin typeface="Helvetica Black"/>
              </a:rPr>
              <a:t>spatial</a:t>
            </a:r>
            <a:r>
              <a:rPr b="0" lang="en-US" sz="2000" spc="-1" strike="noStrike">
                <a:solidFill>
                  <a:srgbClr val="990000"/>
                </a:solidFill>
                <a:latin typeface="Helvetica Black"/>
              </a:rPr>
              <a:t>:</a:t>
            </a:r>
            <a:r>
              <a:rPr b="0" lang="en-US" sz="2000" spc="-1" strike="noStrike">
                <a:solidFill>
                  <a:srgbClr val="006600"/>
                </a:solidFill>
                <a:latin typeface="Helvetica Black"/>
              </a:rPr>
              <a:t>range(</a:t>
            </a:r>
            <a:r>
              <a:rPr b="1" lang="en-US" sz="1600" spc="-1" strike="noStrike">
                <a:solidFill>
                  <a:srgbClr val="000000"/>
                </a:solidFill>
                <a:latin typeface="Helvetica Black"/>
              </a:rPr>
              <a:t>T’,X’,Y’,Rad’</a:t>
            </a:r>
            <a:r>
              <a:rPr b="1" lang="en-US" sz="2000" spc="-1" strike="noStrike">
                <a:solidFill>
                  <a:srgbClr val="006600"/>
                </a:solidFill>
                <a:latin typeface="Helvetica Black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Helvetica Black"/>
              </a:rPr>
              <a:t>)</a:t>
            </a:r>
            <a:r>
              <a:rPr b="0" lang="en-US" sz="2000" spc="-1" strike="noStrike">
                <a:solidFill>
                  <a:srgbClr val="ff0000"/>
                </a:solidFill>
                <a:latin typeface="Helvetica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057400" y="1905120"/>
            <a:ext cx="3657600" cy="468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e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e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B969-9F88-4DC0-ABF4-38B048D27A1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V.3 Architecture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Development Tim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1. Agent developer states set I of invariants.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2. Derive additional invariants 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           (wrt </a:t>
            </a:r>
            <a:r>
              <a:rPr b="1" lang="en-US" sz="1800" spc="-1" strike="noStrike">
                <a:solidFill>
                  <a:srgbClr val="ff0000"/>
                </a:solidFill>
                <a:latin typeface="Helvetica Black"/>
              </a:rPr>
              <a:t>implication check</a:t>
            </a:r>
            <a:r>
              <a:rPr b="0" lang="en-US" sz="1800" spc="-1" strike="noStrike">
                <a:solidFill>
                  <a:srgbClr val="000000"/>
                </a:solidFill>
                <a:latin typeface="Helvetica Black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Helvetica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Deployment Time: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Black"/>
              </a:rPr>
              <a:t>Identify three  relationships between ccc’s: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dentic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cc’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ie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c’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verlapp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cc’s 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(neither 1. nor 2. but conjunction 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     is consist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Based on the above and a </a:t>
            </a:r>
            <a:r>
              <a:rPr b="0" lang="en-US" sz="2000" spc="-1" strike="noStrike">
                <a:solidFill>
                  <a:srgbClr val="ff0000"/>
                </a:solidFill>
                <a:latin typeface="Helvetica Black"/>
              </a:rPr>
              <a:t>cost model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 for ccc evaluations, we developed various </a:t>
            </a:r>
            <a:r>
              <a:rPr b="1" lang="en-US" sz="2000" spc="-1" strike="noStrike">
                <a:solidFill>
                  <a:srgbClr val="ff0000"/>
                </a:solidFill>
                <a:latin typeface="Helvetica Black"/>
              </a:rPr>
              <a:t>merge-algorithms</a:t>
            </a: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 parameterized by heuristics.</a:t>
            </a: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5B18-990C-4A4C-B673-65B3C78569A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5867280" y="3200400"/>
            <a:ext cx="838440" cy="2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248520" y="2057400"/>
            <a:ext cx="457200" cy="2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867280" y="1600200"/>
            <a:ext cx="381240" cy="2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V. 4 Example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pping ccc’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cc1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patial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horizontal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,100,200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cc2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patial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horizontal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,150, 250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ly, it is better to exec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cc3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patial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horizontal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,100,250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xecuting selections to get the                  results for ccc1 and ccc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295280" y="5257800"/>
            <a:ext cx="6553440" cy="7192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spatial: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horizontal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,a,b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ves back all points (x,y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in ma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.t. a&lt;y&lt;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3581-CE91-4D5C-9604-68F9B31FF7C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V. 5  Results: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Development Phase</a:t>
            </a:r>
            <a:br>
              <a:rPr sz="4000"/>
            </a:b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ing implication is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Helvetica Black"/>
              </a:rPr>
              <a:t>undecidable for arbitrary datatypes and </a:t>
            </a:r>
            <a:endParaRPr b="0" lang="en-US" sz="2400" spc="-1" strike="noStrike">
              <a:solidFill>
                <a:srgbClr val="000000"/>
              </a:solidFill>
              <a:latin typeface="Helvetica Black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Helvetica Black"/>
              </a:rPr>
              <a:t>co-NP complete for finite domains.</a:t>
            </a:r>
            <a:endParaRPr b="0" lang="en-US" sz="2400" spc="-1" strike="noStrike">
              <a:solidFill>
                <a:srgbClr val="000000"/>
              </a:solidFill>
              <a:latin typeface="Helvetica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fore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se an incomplete but sou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algorithm (efficiency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A916-AFAF-45DC-82CD-BFA39E3CAB3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V. 6 Results: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ployment Phase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hecked against classical query optimization techniques (Sellis 1994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ewed as a state search problem and use A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lgorith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We ran experiments on relational data and on a spatial database used in IMP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3" name=""/>
          <p:cNvGraphicFramePr/>
          <p:nvPr/>
        </p:nvGraphicFramePr>
        <p:xfrm>
          <a:off x="1600200" y="2819520"/>
          <a:ext cx="6477120" cy="352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819520"/>
                    <a:ext cx="6477120" cy="35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9D39-D4D7-44E1-8435-7363DE33A2D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V.7 Results 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patial domain: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lassical method competes onl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beyond 70% sharingfa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tional domai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lassical method competes onl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beyond 40% sharingfac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572000" y="1295280"/>
            <a:ext cx="4038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14ffb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1371600" y="914400"/>
          <a:ext cx="6324480" cy="38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14400"/>
                    <a:ext cx="6324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3D5C-9731-4DAE-8CB2-368F12A4EC6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V. 8 Results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merge algorithm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ndle more than twice as man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imultaneous ccc’s as 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ru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0-6000 times fas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the execution plan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 most 5% mo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mpared with 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Black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hecking for overlapping ccc’s pays 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46A-AD4B-4881-A531-E75D704F285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Summary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Is based 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rmal, mathematical method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(Computational Logic). Identifies efficiently implementable classes of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’ing SHOP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mphasis is put 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ilding on top of legacy code and distributed heterogenous data,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us taking real applications seriousl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vily Loaded Agen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ramework  is detailed enough to formulate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tack general problem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, but yet is not bound to IMPACT al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0952-EC25-4BE3-89F6-A8D3C463FCC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. 1 Supply Chain Scenario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7162920" y="2057400"/>
            <a:ext cx="1143000" cy="6033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7467480" y="2286000"/>
            <a:ext cx="533520" cy="533520"/>
          </a:xfrm>
          <a:prstGeom prst="cube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400800" y="24382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10080" y="2209680"/>
            <a:ext cx="990720" cy="6098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edi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715000" y="1905120"/>
            <a:ext cx="366840" cy="457200"/>
            <a:chOff x="5715000" y="1905120"/>
            <a:chExt cx="366840" cy="457200"/>
          </a:xfrm>
        </p:grpSpPr>
        <p:pic>
          <p:nvPicPr>
            <p:cNvPr id="253" name="" descr=""/>
            <p:cNvPicPr/>
            <p:nvPr/>
          </p:nvPicPr>
          <p:blipFill>
            <a:blip r:embed="rId2"/>
            <a:stretch/>
          </p:blipFill>
          <p:spPr>
            <a:xfrm>
              <a:off x="5715000" y="1905120"/>
              <a:ext cx="366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 txBox="1"/>
            <p:nvPr/>
          </p:nvSpPr>
          <p:spPr>
            <a:xfrm>
              <a:off x="5715000" y="1905120"/>
              <a:ext cx="366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7391520" y="5105520"/>
            <a:ext cx="1143000" cy="6030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7315200" y="4267080"/>
            <a:ext cx="1143000" cy="603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5"/>
          <a:stretch/>
        </p:blipFill>
        <p:spPr>
          <a:xfrm>
            <a:off x="7238880" y="3276720"/>
            <a:ext cx="1143000" cy="603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620120" y="3352680"/>
            <a:ext cx="533160" cy="533520"/>
          </a:xfrm>
          <a:prstGeom prst="cube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96080" y="4419720"/>
            <a:ext cx="533520" cy="533160"/>
          </a:xfrm>
          <a:prstGeom prst="cube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96080" y="5257800"/>
            <a:ext cx="533520" cy="533520"/>
          </a:xfrm>
          <a:prstGeom prst="cube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6400440" y="2819520"/>
            <a:ext cx="106668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6172200" y="2819520"/>
            <a:ext cx="137160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5866920" y="2819520"/>
            <a:ext cx="175284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466840" y="2581200"/>
            <a:ext cx="32256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85240" y="585792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ufa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5867280"/>
            <a:ext cx="7054920" cy="733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urchasing agent asks transportation agents about time needed to deliver parts to the plant + cost.  It finds a supplier/Transporter combo that minimizes cost but gets the supplies and repair crews before  breakdow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657600" y="3581280"/>
            <a:ext cx="1143000" cy="6098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urcha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4343040" y="2514600"/>
            <a:ext cx="106668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3276720" y="1447920"/>
            <a:ext cx="534960" cy="974520"/>
          </a:xfrm>
          <a:prstGeom prst="rect">
            <a:avLst/>
          </a:prstGeom>
          <a:ln w="0">
            <a:noFill/>
          </a:ln>
        </p:spPr>
      </p:pic>
      <p:pic>
        <p:nvPicPr>
          <p:cNvPr id="270" name="bl00381_" descr=""/>
          <p:cNvPicPr/>
          <p:nvPr/>
        </p:nvPicPr>
        <p:blipFill>
          <a:blip r:embed="rId7"/>
          <a:stretch/>
        </p:blipFill>
        <p:spPr>
          <a:xfrm>
            <a:off x="2438280" y="2209680"/>
            <a:ext cx="777960" cy="435240"/>
          </a:xfrm>
          <a:prstGeom prst="rect">
            <a:avLst/>
          </a:prstGeom>
          <a:ln w="0">
            <a:noFill/>
          </a:ln>
        </p:spPr>
      </p:pic>
      <p:pic>
        <p:nvPicPr>
          <p:cNvPr id="271" name="bl00381_" descr=""/>
          <p:cNvPicPr/>
          <p:nvPr/>
        </p:nvPicPr>
        <p:blipFill>
          <a:blip r:embed="rId8"/>
          <a:stretch/>
        </p:blipFill>
        <p:spPr>
          <a:xfrm>
            <a:off x="2057400" y="2743200"/>
            <a:ext cx="777960" cy="4348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 flipH="1" flipV="1">
            <a:off x="3581280" y="2362320"/>
            <a:ext cx="457200" cy="1218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3124080" y="2743200"/>
            <a:ext cx="609840" cy="838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2895120" y="3200400"/>
            <a:ext cx="838440" cy="380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9"/>
          <a:stretch/>
        </p:blipFill>
        <p:spPr>
          <a:xfrm>
            <a:off x="990720" y="3429000"/>
            <a:ext cx="761760" cy="2937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0"/>
          <a:stretch/>
        </p:blipFill>
        <p:spPr>
          <a:xfrm>
            <a:off x="838080" y="3276720"/>
            <a:ext cx="762120" cy="2934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1"/>
          <a:stretch/>
        </p:blipFill>
        <p:spPr>
          <a:xfrm>
            <a:off x="1066680" y="3809880"/>
            <a:ext cx="425520" cy="685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2"/>
          <a:stretch/>
        </p:blipFill>
        <p:spPr>
          <a:xfrm>
            <a:off x="1219320" y="3962520"/>
            <a:ext cx="425160" cy="6858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3"/>
          <a:stretch/>
        </p:blipFill>
        <p:spPr>
          <a:xfrm>
            <a:off x="1600200" y="4727520"/>
            <a:ext cx="838080" cy="433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4"/>
          <a:stretch/>
        </p:blipFill>
        <p:spPr>
          <a:xfrm>
            <a:off x="1752480" y="4879800"/>
            <a:ext cx="838440" cy="4334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855080" y="4114800"/>
            <a:ext cx="102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i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209680" y="3581280"/>
            <a:ext cx="1447920" cy="1447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1599840" y="3581280"/>
            <a:ext cx="198108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1523520" y="35812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00200" y="1981080"/>
            <a:ext cx="99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ppl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5105520"/>
            <a:ext cx="990720" cy="6094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p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5"/>
          <a:stretch/>
        </p:blipFill>
        <p:spPr>
          <a:xfrm>
            <a:off x="3124080" y="5105520"/>
            <a:ext cx="441360" cy="609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114800" y="41911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World_sm97" descr=""/>
          <p:cNvPicPr/>
          <p:nvPr/>
        </p:nvPicPr>
        <p:blipFill>
          <a:blip r:embed="rId16"/>
          <a:stretch/>
        </p:blipFill>
        <p:spPr>
          <a:xfrm flipH="1" rot="10800000">
            <a:off x="0" y="5181120"/>
            <a:ext cx="1295280" cy="5605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 flipH="1">
            <a:off x="685440" y="3657600"/>
            <a:ext cx="30492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62120" y="46483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952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219320" y="51055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2280" y="5181480"/>
            <a:ext cx="93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out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690B-C80F-44E7-903F-5CFFABCD38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1143000" y="3962520"/>
            <a:ext cx="7620120" cy="1079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1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10663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efeasible Reason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CS 0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(D et a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eta-Agent Progra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LP 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D/VS/P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mporal Agent Programs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IJ 0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D/Kraus/V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babilistic Agent Progra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M 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D/Nanni/V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eavily Loaded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m. (D/Ozcan/V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mpacting SHOP: Plann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MAI 0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D/Munoz/Na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eterogenous Agent System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IT Press 2000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D et a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ts dealing with time and Uncertainty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AMAS0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D/Kraus/V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1B97-0542-428F-9DF6-DFE2C521F2A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I. 1 Supply Chain Scenario</a:t>
            </a:r>
            <a:endParaRPr b="1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162920" y="2057400"/>
            <a:ext cx="1143000" cy="6033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7467480" y="2286000"/>
            <a:ext cx="533520" cy="533520"/>
          </a:xfrm>
          <a:prstGeom prst="cube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400800" y="24382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10080" y="2209680"/>
            <a:ext cx="990720" cy="6098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edi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715000" y="1905120"/>
            <a:ext cx="366840" cy="457200"/>
            <a:chOff x="5715000" y="1905120"/>
            <a:chExt cx="366840" cy="457200"/>
          </a:xfrm>
        </p:grpSpPr>
        <p:pic>
          <p:nvPicPr>
            <p:cNvPr id="301" name="" descr=""/>
            <p:cNvPicPr/>
            <p:nvPr/>
          </p:nvPicPr>
          <p:blipFill>
            <a:blip r:embed="rId2"/>
            <a:stretch/>
          </p:blipFill>
          <p:spPr>
            <a:xfrm>
              <a:off x="5715000" y="1905120"/>
              <a:ext cx="366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 txBox="1"/>
            <p:nvPr/>
          </p:nvSpPr>
          <p:spPr>
            <a:xfrm>
              <a:off x="5715000" y="1905120"/>
              <a:ext cx="366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657600" y="3581280"/>
            <a:ext cx="1143000" cy="6098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urcha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3276720" y="1447920"/>
            <a:ext cx="534960" cy="974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838080" y="3276720"/>
            <a:ext cx="762120" cy="2934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5"/>
          <a:stretch/>
        </p:blipFill>
        <p:spPr>
          <a:xfrm>
            <a:off x="990720" y="3429000"/>
            <a:ext cx="761760" cy="2937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1066680" y="3809880"/>
            <a:ext cx="425520" cy="6858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7"/>
          <a:stretch/>
        </p:blipFill>
        <p:spPr>
          <a:xfrm>
            <a:off x="1219320" y="3962520"/>
            <a:ext cx="425160" cy="6858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8"/>
          <a:stretch/>
        </p:blipFill>
        <p:spPr>
          <a:xfrm>
            <a:off x="1600200" y="4727520"/>
            <a:ext cx="838080" cy="4334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9"/>
          <a:stretch/>
        </p:blipFill>
        <p:spPr>
          <a:xfrm>
            <a:off x="1752480" y="4879800"/>
            <a:ext cx="838440" cy="4334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 flipH="1">
            <a:off x="4343040" y="2514600"/>
            <a:ext cx="106668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3581280" y="2362320"/>
            <a:ext cx="457200" cy="1218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3124080" y="2743200"/>
            <a:ext cx="609840" cy="838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2895120" y="3200400"/>
            <a:ext cx="838440" cy="380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523520" y="35812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209680" y="3581280"/>
            <a:ext cx="1447920" cy="1447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599840" y="3581280"/>
            <a:ext cx="198108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29000" y="5105520"/>
            <a:ext cx="990720" cy="6094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p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0"/>
          <a:stretch/>
        </p:blipFill>
        <p:spPr>
          <a:xfrm>
            <a:off x="3048120" y="5486400"/>
            <a:ext cx="441360" cy="6094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11"/>
          <a:stretch/>
        </p:blipFill>
        <p:spPr>
          <a:xfrm>
            <a:off x="3200400" y="5638680"/>
            <a:ext cx="441360" cy="6098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12"/>
          <a:stretch/>
        </p:blipFill>
        <p:spPr>
          <a:xfrm>
            <a:off x="3352680" y="5791320"/>
            <a:ext cx="441360" cy="6094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257800" y="5105520"/>
            <a:ext cx="990720" cy="6094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3"/>
          <a:stretch/>
        </p:blipFill>
        <p:spPr>
          <a:xfrm>
            <a:off x="5029200" y="5562720"/>
            <a:ext cx="609480" cy="5396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14"/>
          <a:stretch/>
        </p:blipFill>
        <p:spPr>
          <a:xfrm>
            <a:off x="5181480" y="5715000"/>
            <a:ext cx="609840" cy="5396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15"/>
          <a:stretch/>
        </p:blipFill>
        <p:spPr>
          <a:xfrm>
            <a:off x="5334120" y="5867280"/>
            <a:ext cx="609480" cy="5400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4114800" y="41911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48320" y="4191120"/>
            <a:ext cx="914400" cy="914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6"/>
          <a:stretch/>
        </p:blipFill>
        <p:spPr>
          <a:xfrm>
            <a:off x="7391520" y="5105520"/>
            <a:ext cx="1143000" cy="6030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17"/>
          <a:stretch/>
        </p:blipFill>
        <p:spPr>
          <a:xfrm>
            <a:off x="7315200" y="4267080"/>
            <a:ext cx="1143000" cy="6033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18"/>
          <a:stretch/>
        </p:blipFill>
        <p:spPr>
          <a:xfrm>
            <a:off x="7238880" y="3276720"/>
            <a:ext cx="1143000" cy="6030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620120" y="3352680"/>
            <a:ext cx="533160" cy="533520"/>
          </a:xfrm>
          <a:prstGeom prst="cube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96080" y="4419720"/>
            <a:ext cx="533520" cy="533160"/>
          </a:xfrm>
          <a:prstGeom prst="cube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96080" y="5257800"/>
            <a:ext cx="533520" cy="533520"/>
          </a:xfrm>
          <a:prstGeom prst="cube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6400440" y="2819520"/>
            <a:ext cx="106668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6172200" y="2819520"/>
            <a:ext cx="137160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5866920" y="2819520"/>
            <a:ext cx="175284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World_sm97" descr=""/>
          <p:cNvPicPr/>
          <p:nvPr/>
        </p:nvPicPr>
        <p:blipFill>
          <a:blip r:embed="rId19"/>
          <a:stretch/>
        </p:blipFill>
        <p:spPr>
          <a:xfrm flipH="1" rot="10800000">
            <a:off x="685800" y="5714640"/>
            <a:ext cx="1295280" cy="5605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1295280" y="464832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81080" y="5715000"/>
            <a:ext cx="10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outing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55080" y="4114800"/>
            <a:ext cx="102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i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90520" y="2514600"/>
            <a:ext cx="32256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80320" y="586728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ufa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59480" y="1351080"/>
            <a:ext cx="537840" cy="525240"/>
          </a:xfrm>
          <a:custGeom>
            <a:avLst/>
            <a:gdLst/>
            <a:ahLst/>
            <a:rect l="l" t="t" r="r" b="b"/>
            <a:pathLst>
              <a:path w="1358" h="1322">
                <a:moveTo>
                  <a:pt x="0" y="276"/>
                </a:moveTo>
                <a:lnTo>
                  <a:pt x="0" y="0"/>
                </a:lnTo>
                <a:lnTo>
                  <a:pt x="1356" y="0"/>
                </a:lnTo>
                <a:lnTo>
                  <a:pt x="1358" y="1056"/>
                </a:lnTo>
                <a:lnTo>
                  <a:pt x="1240" y="1056"/>
                </a:lnTo>
                <a:lnTo>
                  <a:pt x="1235" y="1065"/>
                </a:lnTo>
                <a:lnTo>
                  <a:pt x="1232" y="1078"/>
                </a:lnTo>
                <a:lnTo>
                  <a:pt x="1232" y="1089"/>
                </a:lnTo>
                <a:lnTo>
                  <a:pt x="1233" y="1102"/>
                </a:lnTo>
                <a:lnTo>
                  <a:pt x="1238" y="1118"/>
                </a:lnTo>
                <a:lnTo>
                  <a:pt x="1242" y="1139"/>
                </a:lnTo>
                <a:lnTo>
                  <a:pt x="1247" y="1154"/>
                </a:lnTo>
                <a:lnTo>
                  <a:pt x="1250" y="1171"/>
                </a:lnTo>
                <a:lnTo>
                  <a:pt x="1253" y="1188"/>
                </a:lnTo>
                <a:lnTo>
                  <a:pt x="1253" y="1204"/>
                </a:lnTo>
                <a:lnTo>
                  <a:pt x="1250" y="1220"/>
                </a:lnTo>
                <a:lnTo>
                  <a:pt x="1247" y="1236"/>
                </a:lnTo>
                <a:lnTo>
                  <a:pt x="1241" y="1251"/>
                </a:lnTo>
                <a:lnTo>
                  <a:pt x="1232" y="1263"/>
                </a:lnTo>
                <a:lnTo>
                  <a:pt x="1219" y="1277"/>
                </a:lnTo>
                <a:lnTo>
                  <a:pt x="1206" y="1288"/>
                </a:lnTo>
                <a:lnTo>
                  <a:pt x="1194" y="1299"/>
                </a:lnTo>
                <a:lnTo>
                  <a:pt x="1180" y="1307"/>
                </a:lnTo>
                <a:lnTo>
                  <a:pt x="1163" y="1313"/>
                </a:lnTo>
                <a:lnTo>
                  <a:pt x="1143" y="1319"/>
                </a:lnTo>
                <a:lnTo>
                  <a:pt x="1124" y="1321"/>
                </a:lnTo>
                <a:lnTo>
                  <a:pt x="1108" y="1322"/>
                </a:lnTo>
                <a:lnTo>
                  <a:pt x="1090" y="1322"/>
                </a:lnTo>
                <a:lnTo>
                  <a:pt x="1074" y="1321"/>
                </a:lnTo>
                <a:lnTo>
                  <a:pt x="1061" y="1319"/>
                </a:lnTo>
                <a:lnTo>
                  <a:pt x="1046" y="1314"/>
                </a:lnTo>
                <a:lnTo>
                  <a:pt x="1030" y="1309"/>
                </a:lnTo>
                <a:lnTo>
                  <a:pt x="1018" y="1302"/>
                </a:lnTo>
                <a:lnTo>
                  <a:pt x="1006" y="1293"/>
                </a:lnTo>
                <a:lnTo>
                  <a:pt x="994" y="1281"/>
                </a:lnTo>
                <a:lnTo>
                  <a:pt x="982" y="1268"/>
                </a:lnTo>
                <a:lnTo>
                  <a:pt x="971" y="1255"/>
                </a:lnTo>
                <a:lnTo>
                  <a:pt x="963" y="1241"/>
                </a:lnTo>
                <a:lnTo>
                  <a:pt x="957" y="1223"/>
                </a:lnTo>
                <a:lnTo>
                  <a:pt x="953" y="1203"/>
                </a:lnTo>
                <a:lnTo>
                  <a:pt x="953" y="1184"/>
                </a:lnTo>
                <a:lnTo>
                  <a:pt x="957" y="1165"/>
                </a:lnTo>
                <a:lnTo>
                  <a:pt x="962" y="1147"/>
                </a:lnTo>
                <a:lnTo>
                  <a:pt x="967" y="1128"/>
                </a:lnTo>
                <a:lnTo>
                  <a:pt x="973" y="1106"/>
                </a:lnTo>
                <a:lnTo>
                  <a:pt x="975" y="1090"/>
                </a:lnTo>
                <a:lnTo>
                  <a:pt x="975" y="1081"/>
                </a:lnTo>
                <a:lnTo>
                  <a:pt x="974" y="1072"/>
                </a:lnTo>
                <a:lnTo>
                  <a:pt x="970" y="1063"/>
                </a:lnTo>
                <a:lnTo>
                  <a:pt x="744" y="1063"/>
                </a:lnTo>
                <a:lnTo>
                  <a:pt x="748" y="1023"/>
                </a:lnTo>
                <a:lnTo>
                  <a:pt x="746" y="1000"/>
                </a:lnTo>
                <a:lnTo>
                  <a:pt x="744" y="979"/>
                </a:lnTo>
                <a:lnTo>
                  <a:pt x="742" y="959"/>
                </a:lnTo>
                <a:lnTo>
                  <a:pt x="738" y="946"/>
                </a:lnTo>
                <a:lnTo>
                  <a:pt x="732" y="934"/>
                </a:lnTo>
                <a:lnTo>
                  <a:pt x="725" y="924"/>
                </a:lnTo>
                <a:lnTo>
                  <a:pt x="713" y="914"/>
                </a:lnTo>
                <a:lnTo>
                  <a:pt x="701" y="906"/>
                </a:lnTo>
                <a:lnTo>
                  <a:pt x="688" y="901"/>
                </a:lnTo>
                <a:lnTo>
                  <a:pt x="676" y="899"/>
                </a:lnTo>
                <a:lnTo>
                  <a:pt x="656" y="898"/>
                </a:lnTo>
                <a:lnTo>
                  <a:pt x="632" y="898"/>
                </a:lnTo>
                <a:lnTo>
                  <a:pt x="610" y="900"/>
                </a:lnTo>
                <a:lnTo>
                  <a:pt x="585" y="901"/>
                </a:lnTo>
                <a:lnTo>
                  <a:pt x="566" y="904"/>
                </a:lnTo>
                <a:lnTo>
                  <a:pt x="542" y="905"/>
                </a:lnTo>
                <a:lnTo>
                  <a:pt x="522" y="904"/>
                </a:lnTo>
                <a:lnTo>
                  <a:pt x="504" y="901"/>
                </a:lnTo>
                <a:lnTo>
                  <a:pt x="477" y="896"/>
                </a:lnTo>
                <a:lnTo>
                  <a:pt x="459" y="887"/>
                </a:lnTo>
                <a:lnTo>
                  <a:pt x="443" y="875"/>
                </a:lnTo>
                <a:lnTo>
                  <a:pt x="432" y="863"/>
                </a:lnTo>
                <a:lnTo>
                  <a:pt x="423" y="848"/>
                </a:lnTo>
                <a:lnTo>
                  <a:pt x="416" y="831"/>
                </a:lnTo>
                <a:lnTo>
                  <a:pt x="414" y="812"/>
                </a:lnTo>
                <a:lnTo>
                  <a:pt x="414" y="788"/>
                </a:lnTo>
                <a:lnTo>
                  <a:pt x="416" y="771"/>
                </a:lnTo>
                <a:lnTo>
                  <a:pt x="414" y="753"/>
                </a:lnTo>
                <a:lnTo>
                  <a:pt x="410" y="733"/>
                </a:lnTo>
                <a:lnTo>
                  <a:pt x="406" y="721"/>
                </a:lnTo>
                <a:lnTo>
                  <a:pt x="400" y="709"/>
                </a:lnTo>
                <a:lnTo>
                  <a:pt x="393" y="701"/>
                </a:lnTo>
                <a:lnTo>
                  <a:pt x="386" y="694"/>
                </a:lnTo>
                <a:lnTo>
                  <a:pt x="371" y="687"/>
                </a:lnTo>
                <a:lnTo>
                  <a:pt x="353" y="679"/>
                </a:lnTo>
                <a:lnTo>
                  <a:pt x="333" y="673"/>
                </a:lnTo>
                <a:lnTo>
                  <a:pt x="310" y="667"/>
                </a:lnTo>
                <a:lnTo>
                  <a:pt x="286" y="662"/>
                </a:lnTo>
                <a:lnTo>
                  <a:pt x="261" y="659"/>
                </a:lnTo>
                <a:lnTo>
                  <a:pt x="244" y="653"/>
                </a:lnTo>
                <a:lnTo>
                  <a:pt x="225" y="647"/>
                </a:lnTo>
                <a:lnTo>
                  <a:pt x="206" y="640"/>
                </a:lnTo>
                <a:lnTo>
                  <a:pt x="193" y="629"/>
                </a:lnTo>
                <a:lnTo>
                  <a:pt x="178" y="616"/>
                </a:lnTo>
                <a:lnTo>
                  <a:pt x="167" y="604"/>
                </a:lnTo>
                <a:lnTo>
                  <a:pt x="158" y="590"/>
                </a:lnTo>
                <a:lnTo>
                  <a:pt x="151" y="574"/>
                </a:lnTo>
                <a:lnTo>
                  <a:pt x="148" y="556"/>
                </a:lnTo>
                <a:lnTo>
                  <a:pt x="148" y="540"/>
                </a:lnTo>
                <a:lnTo>
                  <a:pt x="152" y="524"/>
                </a:lnTo>
                <a:lnTo>
                  <a:pt x="158" y="502"/>
                </a:lnTo>
                <a:lnTo>
                  <a:pt x="164" y="480"/>
                </a:lnTo>
                <a:lnTo>
                  <a:pt x="166" y="460"/>
                </a:lnTo>
                <a:lnTo>
                  <a:pt x="171" y="439"/>
                </a:lnTo>
                <a:lnTo>
                  <a:pt x="173" y="419"/>
                </a:lnTo>
                <a:lnTo>
                  <a:pt x="171" y="398"/>
                </a:lnTo>
                <a:lnTo>
                  <a:pt x="166" y="379"/>
                </a:lnTo>
                <a:lnTo>
                  <a:pt x="159" y="361"/>
                </a:lnTo>
                <a:lnTo>
                  <a:pt x="149" y="343"/>
                </a:lnTo>
                <a:lnTo>
                  <a:pt x="139" y="329"/>
                </a:lnTo>
                <a:lnTo>
                  <a:pt x="133" y="320"/>
                </a:lnTo>
                <a:lnTo>
                  <a:pt x="122" y="310"/>
                </a:lnTo>
                <a:lnTo>
                  <a:pt x="112" y="300"/>
                </a:lnTo>
                <a:lnTo>
                  <a:pt x="101" y="293"/>
                </a:lnTo>
                <a:lnTo>
                  <a:pt x="87" y="286"/>
                </a:lnTo>
                <a:lnTo>
                  <a:pt x="73" y="282"/>
                </a:lnTo>
                <a:lnTo>
                  <a:pt x="55" y="277"/>
                </a:lnTo>
                <a:lnTo>
                  <a:pt x="35" y="276"/>
                </a:lnTo>
                <a:lnTo>
                  <a:pt x="18" y="276"/>
                </a:lnTo>
                <a:lnTo>
                  <a:pt x="0" y="276"/>
                </a:lnTo>
                <a:close/>
              </a:path>
            </a:pathLst>
          </a:custGeom>
          <a:solidFill>
            <a:srgbClr val="ff00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656240" y="1770120"/>
            <a:ext cx="541080" cy="439560"/>
          </a:xfrm>
          <a:custGeom>
            <a:avLst/>
            <a:gdLst/>
            <a:ahLst/>
            <a:rect l="l" t="t" r="r" b="b"/>
            <a:pathLst>
              <a:path w="1364" h="1107">
                <a:moveTo>
                  <a:pt x="0" y="875"/>
                </a:moveTo>
                <a:lnTo>
                  <a:pt x="0" y="1107"/>
                </a:lnTo>
                <a:lnTo>
                  <a:pt x="1364" y="1107"/>
                </a:lnTo>
                <a:lnTo>
                  <a:pt x="1362" y="0"/>
                </a:lnTo>
                <a:lnTo>
                  <a:pt x="1241" y="0"/>
                </a:lnTo>
                <a:lnTo>
                  <a:pt x="1235" y="21"/>
                </a:lnTo>
                <a:lnTo>
                  <a:pt x="1235" y="36"/>
                </a:lnTo>
                <a:lnTo>
                  <a:pt x="1239" y="57"/>
                </a:lnTo>
                <a:lnTo>
                  <a:pt x="1246" y="80"/>
                </a:lnTo>
                <a:lnTo>
                  <a:pt x="1253" y="107"/>
                </a:lnTo>
                <a:lnTo>
                  <a:pt x="1256" y="128"/>
                </a:lnTo>
                <a:lnTo>
                  <a:pt x="1256" y="147"/>
                </a:lnTo>
                <a:lnTo>
                  <a:pt x="1254" y="168"/>
                </a:lnTo>
                <a:lnTo>
                  <a:pt x="1248" y="188"/>
                </a:lnTo>
                <a:lnTo>
                  <a:pt x="1235" y="207"/>
                </a:lnTo>
                <a:lnTo>
                  <a:pt x="1220" y="223"/>
                </a:lnTo>
                <a:lnTo>
                  <a:pt x="1203" y="239"/>
                </a:lnTo>
                <a:lnTo>
                  <a:pt x="1185" y="249"/>
                </a:lnTo>
                <a:lnTo>
                  <a:pt x="1162" y="258"/>
                </a:lnTo>
                <a:lnTo>
                  <a:pt x="1142" y="262"/>
                </a:lnTo>
                <a:lnTo>
                  <a:pt x="1114" y="264"/>
                </a:lnTo>
                <a:lnTo>
                  <a:pt x="1081" y="261"/>
                </a:lnTo>
                <a:lnTo>
                  <a:pt x="1060" y="258"/>
                </a:lnTo>
                <a:lnTo>
                  <a:pt x="1041" y="253"/>
                </a:lnTo>
                <a:lnTo>
                  <a:pt x="1023" y="242"/>
                </a:lnTo>
                <a:lnTo>
                  <a:pt x="1001" y="225"/>
                </a:lnTo>
                <a:lnTo>
                  <a:pt x="987" y="208"/>
                </a:lnTo>
                <a:lnTo>
                  <a:pt x="974" y="190"/>
                </a:lnTo>
                <a:lnTo>
                  <a:pt x="967" y="172"/>
                </a:lnTo>
                <a:lnTo>
                  <a:pt x="962" y="154"/>
                </a:lnTo>
                <a:lnTo>
                  <a:pt x="962" y="134"/>
                </a:lnTo>
                <a:lnTo>
                  <a:pt x="964" y="114"/>
                </a:lnTo>
                <a:lnTo>
                  <a:pt x="969" y="95"/>
                </a:lnTo>
                <a:lnTo>
                  <a:pt x="974" y="77"/>
                </a:lnTo>
                <a:lnTo>
                  <a:pt x="980" y="59"/>
                </a:lnTo>
                <a:lnTo>
                  <a:pt x="983" y="40"/>
                </a:lnTo>
                <a:lnTo>
                  <a:pt x="983" y="23"/>
                </a:lnTo>
                <a:lnTo>
                  <a:pt x="979" y="4"/>
                </a:lnTo>
                <a:lnTo>
                  <a:pt x="750" y="4"/>
                </a:lnTo>
                <a:lnTo>
                  <a:pt x="752" y="43"/>
                </a:lnTo>
                <a:lnTo>
                  <a:pt x="750" y="70"/>
                </a:lnTo>
                <a:lnTo>
                  <a:pt x="749" y="93"/>
                </a:lnTo>
                <a:lnTo>
                  <a:pt x="749" y="113"/>
                </a:lnTo>
                <a:lnTo>
                  <a:pt x="747" y="134"/>
                </a:lnTo>
                <a:lnTo>
                  <a:pt x="742" y="155"/>
                </a:lnTo>
                <a:lnTo>
                  <a:pt x="736" y="169"/>
                </a:lnTo>
                <a:lnTo>
                  <a:pt x="728" y="182"/>
                </a:lnTo>
                <a:lnTo>
                  <a:pt x="716" y="193"/>
                </a:lnTo>
                <a:lnTo>
                  <a:pt x="703" y="201"/>
                </a:lnTo>
                <a:lnTo>
                  <a:pt x="688" y="206"/>
                </a:lnTo>
                <a:lnTo>
                  <a:pt x="671" y="208"/>
                </a:lnTo>
                <a:lnTo>
                  <a:pt x="656" y="209"/>
                </a:lnTo>
                <a:lnTo>
                  <a:pt x="636" y="209"/>
                </a:lnTo>
                <a:lnTo>
                  <a:pt x="617" y="207"/>
                </a:lnTo>
                <a:lnTo>
                  <a:pt x="602" y="206"/>
                </a:lnTo>
                <a:lnTo>
                  <a:pt x="582" y="205"/>
                </a:lnTo>
                <a:lnTo>
                  <a:pt x="561" y="202"/>
                </a:lnTo>
                <a:lnTo>
                  <a:pt x="537" y="202"/>
                </a:lnTo>
                <a:lnTo>
                  <a:pt x="517" y="205"/>
                </a:lnTo>
                <a:lnTo>
                  <a:pt x="497" y="207"/>
                </a:lnTo>
                <a:lnTo>
                  <a:pt x="476" y="213"/>
                </a:lnTo>
                <a:lnTo>
                  <a:pt x="460" y="221"/>
                </a:lnTo>
                <a:lnTo>
                  <a:pt x="444" y="232"/>
                </a:lnTo>
                <a:lnTo>
                  <a:pt x="433" y="246"/>
                </a:lnTo>
                <a:lnTo>
                  <a:pt x="423" y="261"/>
                </a:lnTo>
                <a:lnTo>
                  <a:pt x="418" y="277"/>
                </a:lnTo>
                <a:lnTo>
                  <a:pt x="416" y="294"/>
                </a:lnTo>
                <a:lnTo>
                  <a:pt x="418" y="312"/>
                </a:lnTo>
                <a:lnTo>
                  <a:pt x="419" y="331"/>
                </a:lnTo>
                <a:lnTo>
                  <a:pt x="418" y="351"/>
                </a:lnTo>
                <a:lnTo>
                  <a:pt x="414" y="366"/>
                </a:lnTo>
                <a:lnTo>
                  <a:pt x="410" y="383"/>
                </a:lnTo>
                <a:lnTo>
                  <a:pt x="403" y="398"/>
                </a:lnTo>
                <a:lnTo>
                  <a:pt x="393" y="408"/>
                </a:lnTo>
                <a:lnTo>
                  <a:pt x="378" y="419"/>
                </a:lnTo>
                <a:lnTo>
                  <a:pt x="359" y="426"/>
                </a:lnTo>
                <a:lnTo>
                  <a:pt x="340" y="432"/>
                </a:lnTo>
                <a:lnTo>
                  <a:pt x="323" y="437"/>
                </a:lnTo>
                <a:lnTo>
                  <a:pt x="304" y="441"/>
                </a:lnTo>
                <a:lnTo>
                  <a:pt x="279" y="446"/>
                </a:lnTo>
                <a:lnTo>
                  <a:pt x="260" y="450"/>
                </a:lnTo>
                <a:lnTo>
                  <a:pt x="240" y="456"/>
                </a:lnTo>
                <a:lnTo>
                  <a:pt x="224" y="462"/>
                </a:lnTo>
                <a:lnTo>
                  <a:pt x="207" y="469"/>
                </a:lnTo>
                <a:lnTo>
                  <a:pt x="194" y="478"/>
                </a:lnTo>
                <a:lnTo>
                  <a:pt x="183" y="487"/>
                </a:lnTo>
                <a:lnTo>
                  <a:pt x="170" y="503"/>
                </a:lnTo>
                <a:lnTo>
                  <a:pt x="161" y="517"/>
                </a:lnTo>
                <a:lnTo>
                  <a:pt x="154" y="533"/>
                </a:lnTo>
                <a:lnTo>
                  <a:pt x="151" y="553"/>
                </a:lnTo>
                <a:lnTo>
                  <a:pt x="153" y="572"/>
                </a:lnTo>
                <a:lnTo>
                  <a:pt x="155" y="591"/>
                </a:lnTo>
                <a:lnTo>
                  <a:pt x="161" y="614"/>
                </a:lnTo>
                <a:lnTo>
                  <a:pt x="167" y="638"/>
                </a:lnTo>
                <a:lnTo>
                  <a:pt x="172" y="661"/>
                </a:lnTo>
                <a:lnTo>
                  <a:pt x="174" y="678"/>
                </a:lnTo>
                <a:lnTo>
                  <a:pt x="174" y="695"/>
                </a:lnTo>
                <a:lnTo>
                  <a:pt x="172" y="717"/>
                </a:lnTo>
                <a:lnTo>
                  <a:pt x="166" y="736"/>
                </a:lnTo>
                <a:lnTo>
                  <a:pt x="161" y="753"/>
                </a:lnTo>
                <a:lnTo>
                  <a:pt x="154" y="768"/>
                </a:lnTo>
                <a:lnTo>
                  <a:pt x="145" y="788"/>
                </a:lnTo>
                <a:lnTo>
                  <a:pt x="132" y="810"/>
                </a:lnTo>
                <a:lnTo>
                  <a:pt x="118" y="827"/>
                </a:lnTo>
                <a:lnTo>
                  <a:pt x="104" y="840"/>
                </a:lnTo>
                <a:lnTo>
                  <a:pt x="91" y="852"/>
                </a:lnTo>
                <a:lnTo>
                  <a:pt x="77" y="861"/>
                </a:lnTo>
                <a:lnTo>
                  <a:pt x="62" y="867"/>
                </a:lnTo>
                <a:lnTo>
                  <a:pt x="42" y="872"/>
                </a:lnTo>
                <a:lnTo>
                  <a:pt x="20" y="875"/>
                </a:lnTo>
                <a:lnTo>
                  <a:pt x="0" y="875"/>
                </a:lnTo>
                <a:close/>
              </a:path>
            </a:pathLst>
          </a:custGeom>
          <a:solidFill>
            <a:srgbClr val="0000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8040" y="1684440"/>
            <a:ext cx="538200" cy="525240"/>
          </a:xfrm>
          <a:custGeom>
            <a:avLst/>
            <a:gdLst/>
            <a:ahLst/>
            <a:rect l="l" t="t" r="r" b="b"/>
            <a:pathLst>
              <a:path w="1358" h="1322">
                <a:moveTo>
                  <a:pt x="1358" y="1089"/>
                </a:moveTo>
                <a:lnTo>
                  <a:pt x="1358" y="1322"/>
                </a:lnTo>
                <a:lnTo>
                  <a:pt x="1" y="1322"/>
                </a:lnTo>
                <a:lnTo>
                  <a:pt x="0" y="266"/>
                </a:lnTo>
                <a:lnTo>
                  <a:pt x="118" y="266"/>
                </a:lnTo>
                <a:lnTo>
                  <a:pt x="123" y="257"/>
                </a:lnTo>
                <a:lnTo>
                  <a:pt x="126" y="244"/>
                </a:lnTo>
                <a:lnTo>
                  <a:pt x="126" y="233"/>
                </a:lnTo>
                <a:lnTo>
                  <a:pt x="125" y="220"/>
                </a:lnTo>
                <a:lnTo>
                  <a:pt x="120" y="204"/>
                </a:lnTo>
                <a:lnTo>
                  <a:pt x="116" y="183"/>
                </a:lnTo>
                <a:lnTo>
                  <a:pt x="111" y="169"/>
                </a:lnTo>
                <a:lnTo>
                  <a:pt x="106" y="151"/>
                </a:lnTo>
                <a:lnTo>
                  <a:pt x="105" y="134"/>
                </a:lnTo>
                <a:lnTo>
                  <a:pt x="105" y="118"/>
                </a:lnTo>
                <a:lnTo>
                  <a:pt x="106" y="103"/>
                </a:lnTo>
                <a:lnTo>
                  <a:pt x="111" y="86"/>
                </a:lnTo>
                <a:lnTo>
                  <a:pt x="117" y="71"/>
                </a:lnTo>
                <a:lnTo>
                  <a:pt x="126" y="59"/>
                </a:lnTo>
                <a:lnTo>
                  <a:pt x="139" y="45"/>
                </a:lnTo>
                <a:lnTo>
                  <a:pt x="151" y="34"/>
                </a:lnTo>
                <a:lnTo>
                  <a:pt x="164" y="24"/>
                </a:lnTo>
                <a:lnTo>
                  <a:pt x="178" y="15"/>
                </a:lnTo>
                <a:lnTo>
                  <a:pt x="195" y="8"/>
                </a:lnTo>
                <a:lnTo>
                  <a:pt x="213" y="4"/>
                </a:lnTo>
                <a:lnTo>
                  <a:pt x="233" y="1"/>
                </a:lnTo>
                <a:lnTo>
                  <a:pt x="250" y="0"/>
                </a:lnTo>
                <a:lnTo>
                  <a:pt x="268" y="0"/>
                </a:lnTo>
                <a:lnTo>
                  <a:pt x="284" y="1"/>
                </a:lnTo>
                <a:lnTo>
                  <a:pt x="297" y="4"/>
                </a:lnTo>
                <a:lnTo>
                  <a:pt x="312" y="8"/>
                </a:lnTo>
                <a:lnTo>
                  <a:pt x="328" y="13"/>
                </a:lnTo>
                <a:lnTo>
                  <a:pt x="339" y="20"/>
                </a:lnTo>
                <a:lnTo>
                  <a:pt x="352" y="30"/>
                </a:lnTo>
                <a:lnTo>
                  <a:pt x="364" y="41"/>
                </a:lnTo>
                <a:lnTo>
                  <a:pt x="376" y="54"/>
                </a:lnTo>
                <a:lnTo>
                  <a:pt x="386" y="67"/>
                </a:lnTo>
                <a:lnTo>
                  <a:pt x="395" y="81"/>
                </a:lnTo>
                <a:lnTo>
                  <a:pt x="401" y="99"/>
                </a:lnTo>
                <a:lnTo>
                  <a:pt x="405" y="119"/>
                </a:lnTo>
                <a:lnTo>
                  <a:pt x="405" y="138"/>
                </a:lnTo>
                <a:lnTo>
                  <a:pt x="401" y="157"/>
                </a:lnTo>
                <a:lnTo>
                  <a:pt x="396" y="176"/>
                </a:lnTo>
                <a:lnTo>
                  <a:pt x="391" y="195"/>
                </a:lnTo>
                <a:lnTo>
                  <a:pt x="385" y="216"/>
                </a:lnTo>
                <a:lnTo>
                  <a:pt x="382" y="232"/>
                </a:lnTo>
                <a:lnTo>
                  <a:pt x="382" y="242"/>
                </a:lnTo>
                <a:lnTo>
                  <a:pt x="384" y="250"/>
                </a:lnTo>
                <a:lnTo>
                  <a:pt x="388" y="259"/>
                </a:lnTo>
                <a:lnTo>
                  <a:pt x="613" y="259"/>
                </a:lnTo>
                <a:lnTo>
                  <a:pt x="608" y="303"/>
                </a:lnTo>
                <a:lnTo>
                  <a:pt x="607" y="329"/>
                </a:lnTo>
                <a:lnTo>
                  <a:pt x="608" y="350"/>
                </a:lnTo>
                <a:lnTo>
                  <a:pt x="609" y="370"/>
                </a:lnTo>
                <a:lnTo>
                  <a:pt x="611" y="391"/>
                </a:lnTo>
                <a:lnTo>
                  <a:pt x="615" y="413"/>
                </a:lnTo>
                <a:lnTo>
                  <a:pt x="622" y="427"/>
                </a:lnTo>
                <a:lnTo>
                  <a:pt x="630" y="438"/>
                </a:lnTo>
                <a:lnTo>
                  <a:pt x="641" y="449"/>
                </a:lnTo>
                <a:lnTo>
                  <a:pt x="655" y="457"/>
                </a:lnTo>
                <a:lnTo>
                  <a:pt x="670" y="463"/>
                </a:lnTo>
                <a:lnTo>
                  <a:pt x="686" y="466"/>
                </a:lnTo>
                <a:lnTo>
                  <a:pt x="702" y="467"/>
                </a:lnTo>
                <a:lnTo>
                  <a:pt x="721" y="467"/>
                </a:lnTo>
                <a:lnTo>
                  <a:pt x="741" y="464"/>
                </a:lnTo>
                <a:lnTo>
                  <a:pt x="755" y="463"/>
                </a:lnTo>
                <a:lnTo>
                  <a:pt x="776" y="461"/>
                </a:lnTo>
                <a:lnTo>
                  <a:pt x="797" y="459"/>
                </a:lnTo>
                <a:lnTo>
                  <a:pt x="821" y="459"/>
                </a:lnTo>
                <a:lnTo>
                  <a:pt x="841" y="461"/>
                </a:lnTo>
                <a:lnTo>
                  <a:pt x="861" y="464"/>
                </a:lnTo>
                <a:lnTo>
                  <a:pt x="881" y="471"/>
                </a:lnTo>
                <a:lnTo>
                  <a:pt x="898" y="479"/>
                </a:lnTo>
                <a:lnTo>
                  <a:pt x="914" y="490"/>
                </a:lnTo>
                <a:lnTo>
                  <a:pt x="925" y="503"/>
                </a:lnTo>
                <a:lnTo>
                  <a:pt x="934" y="519"/>
                </a:lnTo>
                <a:lnTo>
                  <a:pt x="940" y="535"/>
                </a:lnTo>
                <a:lnTo>
                  <a:pt x="942" y="552"/>
                </a:lnTo>
                <a:lnTo>
                  <a:pt x="940" y="570"/>
                </a:lnTo>
                <a:lnTo>
                  <a:pt x="939" y="589"/>
                </a:lnTo>
                <a:lnTo>
                  <a:pt x="940" y="608"/>
                </a:lnTo>
                <a:lnTo>
                  <a:pt x="942" y="625"/>
                </a:lnTo>
                <a:lnTo>
                  <a:pt x="948" y="640"/>
                </a:lnTo>
                <a:lnTo>
                  <a:pt x="955" y="655"/>
                </a:lnTo>
                <a:lnTo>
                  <a:pt x="965" y="666"/>
                </a:lnTo>
                <a:lnTo>
                  <a:pt x="979" y="677"/>
                </a:lnTo>
                <a:lnTo>
                  <a:pt x="998" y="684"/>
                </a:lnTo>
                <a:lnTo>
                  <a:pt x="1018" y="689"/>
                </a:lnTo>
                <a:lnTo>
                  <a:pt x="1034" y="694"/>
                </a:lnTo>
                <a:lnTo>
                  <a:pt x="1054" y="699"/>
                </a:lnTo>
                <a:lnTo>
                  <a:pt x="1078" y="704"/>
                </a:lnTo>
                <a:lnTo>
                  <a:pt x="1098" y="707"/>
                </a:lnTo>
                <a:lnTo>
                  <a:pt x="1118" y="713"/>
                </a:lnTo>
                <a:lnTo>
                  <a:pt x="1134" y="719"/>
                </a:lnTo>
                <a:lnTo>
                  <a:pt x="1151" y="726"/>
                </a:lnTo>
                <a:lnTo>
                  <a:pt x="1164" y="735"/>
                </a:lnTo>
                <a:lnTo>
                  <a:pt x="1174" y="745"/>
                </a:lnTo>
                <a:lnTo>
                  <a:pt x="1188" y="760"/>
                </a:lnTo>
                <a:lnTo>
                  <a:pt x="1197" y="774"/>
                </a:lnTo>
                <a:lnTo>
                  <a:pt x="1204" y="790"/>
                </a:lnTo>
                <a:lnTo>
                  <a:pt x="1207" y="811"/>
                </a:lnTo>
                <a:lnTo>
                  <a:pt x="1205" y="831"/>
                </a:lnTo>
                <a:lnTo>
                  <a:pt x="1201" y="849"/>
                </a:lnTo>
                <a:lnTo>
                  <a:pt x="1197" y="871"/>
                </a:lnTo>
                <a:lnTo>
                  <a:pt x="1191" y="896"/>
                </a:lnTo>
                <a:lnTo>
                  <a:pt x="1185" y="918"/>
                </a:lnTo>
                <a:lnTo>
                  <a:pt x="1183" y="937"/>
                </a:lnTo>
                <a:lnTo>
                  <a:pt x="1183" y="952"/>
                </a:lnTo>
                <a:lnTo>
                  <a:pt x="1186" y="975"/>
                </a:lnTo>
                <a:lnTo>
                  <a:pt x="1191" y="993"/>
                </a:lnTo>
                <a:lnTo>
                  <a:pt x="1198" y="1008"/>
                </a:lnTo>
                <a:lnTo>
                  <a:pt x="1206" y="1022"/>
                </a:lnTo>
                <a:lnTo>
                  <a:pt x="1218" y="1037"/>
                </a:lnTo>
                <a:lnTo>
                  <a:pt x="1231" y="1052"/>
                </a:lnTo>
                <a:lnTo>
                  <a:pt x="1246" y="1065"/>
                </a:lnTo>
                <a:lnTo>
                  <a:pt x="1264" y="1076"/>
                </a:lnTo>
                <a:lnTo>
                  <a:pt x="1280" y="1082"/>
                </a:lnTo>
                <a:lnTo>
                  <a:pt x="1298" y="1087"/>
                </a:lnTo>
                <a:lnTo>
                  <a:pt x="1316" y="1089"/>
                </a:lnTo>
                <a:lnTo>
                  <a:pt x="1337" y="1090"/>
                </a:lnTo>
                <a:lnTo>
                  <a:pt x="1358" y="1089"/>
                </a:lnTo>
                <a:close/>
              </a:path>
            </a:pathLst>
          </a:custGeom>
          <a:solidFill>
            <a:srgbClr val="00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18040" y="1351080"/>
            <a:ext cx="541440" cy="439560"/>
          </a:xfrm>
          <a:custGeom>
            <a:avLst/>
            <a:gdLst/>
            <a:ahLst/>
            <a:rect l="l" t="t" r="r" b="b"/>
            <a:pathLst>
              <a:path w="1364" h="1108">
                <a:moveTo>
                  <a:pt x="1364" y="276"/>
                </a:moveTo>
                <a:lnTo>
                  <a:pt x="1364" y="0"/>
                </a:lnTo>
                <a:lnTo>
                  <a:pt x="0" y="0"/>
                </a:lnTo>
                <a:lnTo>
                  <a:pt x="1" y="1108"/>
                </a:lnTo>
                <a:lnTo>
                  <a:pt x="123" y="1108"/>
                </a:lnTo>
                <a:lnTo>
                  <a:pt x="129" y="1086"/>
                </a:lnTo>
                <a:lnTo>
                  <a:pt x="129" y="1071"/>
                </a:lnTo>
                <a:lnTo>
                  <a:pt x="125" y="1050"/>
                </a:lnTo>
                <a:lnTo>
                  <a:pt x="118" y="1027"/>
                </a:lnTo>
                <a:lnTo>
                  <a:pt x="111" y="1000"/>
                </a:lnTo>
                <a:lnTo>
                  <a:pt x="107" y="979"/>
                </a:lnTo>
                <a:lnTo>
                  <a:pt x="106" y="960"/>
                </a:lnTo>
                <a:lnTo>
                  <a:pt x="110" y="939"/>
                </a:lnTo>
                <a:lnTo>
                  <a:pt x="116" y="919"/>
                </a:lnTo>
                <a:lnTo>
                  <a:pt x="129" y="899"/>
                </a:lnTo>
                <a:lnTo>
                  <a:pt x="144" y="884"/>
                </a:lnTo>
                <a:lnTo>
                  <a:pt x="160" y="868"/>
                </a:lnTo>
                <a:lnTo>
                  <a:pt x="179" y="858"/>
                </a:lnTo>
                <a:lnTo>
                  <a:pt x="202" y="848"/>
                </a:lnTo>
                <a:lnTo>
                  <a:pt x="222" y="845"/>
                </a:lnTo>
                <a:lnTo>
                  <a:pt x="250" y="844"/>
                </a:lnTo>
                <a:lnTo>
                  <a:pt x="283" y="846"/>
                </a:lnTo>
                <a:lnTo>
                  <a:pt x="304" y="848"/>
                </a:lnTo>
                <a:lnTo>
                  <a:pt x="323" y="854"/>
                </a:lnTo>
                <a:lnTo>
                  <a:pt x="341" y="865"/>
                </a:lnTo>
                <a:lnTo>
                  <a:pt x="363" y="883"/>
                </a:lnTo>
                <a:lnTo>
                  <a:pt x="377" y="899"/>
                </a:lnTo>
                <a:lnTo>
                  <a:pt x="390" y="917"/>
                </a:lnTo>
                <a:lnTo>
                  <a:pt x="397" y="936"/>
                </a:lnTo>
                <a:lnTo>
                  <a:pt x="402" y="953"/>
                </a:lnTo>
                <a:lnTo>
                  <a:pt x="402" y="973"/>
                </a:lnTo>
                <a:lnTo>
                  <a:pt x="399" y="993"/>
                </a:lnTo>
                <a:lnTo>
                  <a:pt x="395" y="1012"/>
                </a:lnTo>
                <a:lnTo>
                  <a:pt x="390" y="1030"/>
                </a:lnTo>
                <a:lnTo>
                  <a:pt x="384" y="1049"/>
                </a:lnTo>
                <a:lnTo>
                  <a:pt x="381" y="1068"/>
                </a:lnTo>
                <a:lnTo>
                  <a:pt x="381" y="1084"/>
                </a:lnTo>
                <a:lnTo>
                  <a:pt x="385" y="1103"/>
                </a:lnTo>
                <a:lnTo>
                  <a:pt x="614" y="1103"/>
                </a:lnTo>
                <a:lnTo>
                  <a:pt x="611" y="1064"/>
                </a:lnTo>
                <a:lnTo>
                  <a:pt x="614" y="1036"/>
                </a:lnTo>
                <a:lnTo>
                  <a:pt x="614" y="1015"/>
                </a:lnTo>
                <a:lnTo>
                  <a:pt x="615" y="994"/>
                </a:lnTo>
                <a:lnTo>
                  <a:pt x="617" y="973"/>
                </a:lnTo>
                <a:lnTo>
                  <a:pt x="622" y="952"/>
                </a:lnTo>
                <a:lnTo>
                  <a:pt x="628" y="938"/>
                </a:lnTo>
                <a:lnTo>
                  <a:pt x="636" y="925"/>
                </a:lnTo>
                <a:lnTo>
                  <a:pt x="648" y="914"/>
                </a:lnTo>
                <a:lnTo>
                  <a:pt x="661" y="906"/>
                </a:lnTo>
                <a:lnTo>
                  <a:pt x="676" y="901"/>
                </a:lnTo>
                <a:lnTo>
                  <a:pt x="693" y="899"/>
                </a:lnTo>
                <a:lnTo>
                  <a:pt x="708" y="898"/>
                </a:lnTo>
                <a:lnTo>
                  <a:pt x="728" y="898"/>
                </a:lnTo>
                <a:lnTo>
                  <a:pt x="747" y="899"/>
                </a:lnTo>
                <a:lnTo>
                  <a:pt x="762" y="901"/>
                </a:lnTo>
                <a:lnTo>
                  <a:pt x="782" y="903"/>
                </a:lnTo>
                <a:lnTo>
                  <a:pt x="803" y="905"/>
                </a:lnTo>
                <a:lnTo>
                  <a:pt x="827" y="905"/>
                </a:lnTo>
                <a:lnTo>
                  <a:pt x="847" y="903"/>
                </a:lnTo>
                <a:lnTo>
                  <a:pt x="867" y="899"/>
                </a:lnTo>
                <a:lnTo>
                  <a:pt x="888" y="894"/>
                </a:lnTo>
                <a:lnTo>
                  <a:pt x="903" y="886"/>
                </a:lnTo>
                <a:lnTo>
                  <a:pt x="920" y="875"/>
                </a:lnTo>
                <a:lnTo>
                  <a:pt x="931" y="861"/>
                </a:lnTo>
                <a:lnTo>
                  <a:pt x="941" y="846"/>
                </a:lnTo>
                <a:lnTo>
                  <a:pt x="946" y="831"/>
                </a:lnTo>
                <a:lnTo>
                  <a:pt x="948" y="813"/>
                </a:lnTo>
                <a:lnTo>
                  <a:pt x="946" y="795"/>
                </a:lnTo>
                <a:lnTo>
                  <a:pt x="945" y="777"/>
                </a:lnTo>
                <a:lnTo>
                  <a:pt x="946" y="756"/>
                </a:lnTo>
                <a:lnTo>
                  <a:pt x="949" y="741"/>
                </a:lnTo>
                <a:lnTo>
                  <a:pt x="954" y="725"/>
                </a:lnTo>
                <a:lnTo>
                  <a:pt x="961" y="709"/>
                </a:lnTo>
                <a:lnTo>
                  <a:pt x="971" y="699"/>
                </a:lnTo>
                <a:lnTo>
                  <a:pt x="986" y="688"/>
                </a:lnTo>
                <a:lnTo>
                  <a:pt x="1005" y="681"/>
                </a:lnTo>
                <a:lnTo>
                  <a:pt x="1024" y="675"/>
                </a:lnTo>
                <a:lnTo>
                  <a:pt x="1041" y="670"/>
                </a:lnTo>
                <a:lnTo>
                  <a:pt x="1060" y="666"/>
                </a:lnTo>
                <a:lnTo>
                  <a:pt x="1085" y="661"/>
                </a:lnTo>
                <a:lnTo>
                  <a:pt x="1104" y="657"/>
                </a:lnTo>
                <a:lnTo>
                  <a:pt x="1124" y="652"/>
                </a:lnTo>
                <a:lnTo>
                  <a:pt x="1140" y="646"/>
                </a:lnTo>
                <a:lnTo>
                  <a:pt x="1157" y="639"/>
                </a:lnTo>
                <a:lnTo>
                  <a:pt x="1170" y="629"/>
                </a:lnTo>
                <a:lnTo>
                  <a:pt x="1181" y="620"/>
                </a:lnTo>
                <a:lnTo>
                  <a:pt x="1194" y="604"/>
                </a:lnTo>
                <a:lnTo>
                  <a:pt x="1203" y="590"/>
                </a:lnTo>
                <a:lnTo>
                  <a:pt x="1210" y="574"/>
                </a:lnTo>
                <a:lnTo>
                  <a:pt x="1213" y="553"/>
                </a:lnTo>
                <a:lnTo>
                  <a:pt x="1211" y="535"/>
                </a:lnTo>
                <a:lnTo>
                  <a:pt x="1208" y="516"/>
                </a:lnTo>
                <a:lnTo>
                  <a:pt x="1203" y="494"/>
                </a:lnTo>
                <a:lnTo>
                  <a:pt x="1197" y="469"/>
                </a:lnTo>
                <a:lnTo>
                  <a:pt x="1191" y="447"/>
                </a:lnTo>
                <a:lnTo>
                  <a:pt x="1190" y="429"/>
                </a:lnTo>
                <a:lnTo>
                  <a:pt x="1190" y="412"/>
                </a:lnTo>
                <a:lnTo>
                  <a:pt x="1192" y="390"/>
                </a:lnTo>
                <a:lnTo>
                  <a:pt x="1198" y="371"/>
                </a:lnTo>
                <a:lnTo>
                  <a:pt x="1204" y="357"/>
                </a:lnTo>
                <a:lnTo>
                  <a:pt x="1212" y="343"/>
                </a:lnTo>
                <a:lnTo>
                  <a:pt x="1224" y="328"/>
                </a:lnTo>
                <a:lnTo>
                  <a:pt x="1237" y="312"/>
                </a:lnTo>
                <a:lnTo>
                  <a:pt x="1253" y="299"/>
                </a:lnTo>
                <a:lnTo>
                  <a:pt x="1271" y="289"/>
                </a:lnTo>
                <a:lnTo>
                  <a:pt x="1287" y="283"/>
                </a:lnTo>
                <a:lnTo>
                  <a:pt x="1304" y="278"/>
                </a:lnTo>
                <a:lnTo>
                  <a:pt x="1321" y="276"/>
                </a:lnTo>
                <a:lnTo>
                  <a:pt x="1343" y="276"/>
                </a:lnTo>
                <a:lnTo>
                  <a:pt x="1364" y="276"/>
                </a:lnTo>
                <a:close/>
              </a:path>
            </a:pathLst>
          </a:custGeom>
          <a:solidFill>
            <a:srgbClr val="00808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356000" y="1460520"/>
            <a:ext cx="600120" cy="657360"/>
          </a:xfrm>
          <a:custGeom>
            <a:avLst/>
            <a:gdLst/>
            <a:ahLst/>
            <a:rect l="l" t="t" r="r" b="b"/>
            <a:pathLst>
              <a:path w="1512" h="1658">
                <a:moveTo>
                  <a:pt x="576" y="347"/>
                </a:moveTo>
                <a:lnTo>
                  <a:pt x="591" y="328"/>
                </a:lnTo>
                <a:lnTo>
                  <a:pt x="602" y="310"/>
                </a:lnTo>
                <a:lnTo>
                  <a:pt x="608" y="290"/>
                </a:lnTo>
                <a:lnTo>
                  <a:pt x="608" y="264"/>
                </a:lnTo>
                <a:lnTo>
                  <a:pt x="601" y="235"/>
                </a:lnTo>
                <a:lnTo>
                  <a:pt x="595" y="210"/>
                </a:lnTo>
                <a:lnTo>
                  <a:pt x="586" y="179"/>
                </a:lnTo>
                <a:lnTo>
                  <a:pt x="583" y="146"/>
                </a:lnTo>
                <a:lnTo>
                  <a:pt x="586" y="126"/>
                </a:lnTo>
                <a:lnTo>
                  <a:pt x="592" y="102"/>
                </a:lnTo>
                <a:lnTo>
                  <a:pt x="604" y="76"/>
                </a:lnTo>
                <a:lnTo>
                  <a:pt x="621" y="51"/>
                </a:lnTo>
                <a:lnTo>
                  <a:pt x="642" y="31"/>
                </a:lnTo>
                <a:lnTo>
                  <a:pt x="661" y="16"/>
                </a:lnTo>
                <a:lnTo>
                  <a:pt x="687" y="6"/>
                </a:lnTo>
                <a:lnTo>
                  <a:pt x="717" y="2"/>
                </a:lnTo>
                <a:lnTo>
                  <a:pt x="750" y="0"/>
                </a:lnTo>
                <a:lnTo>
                  <a:pt x="795" y="0"/>
                </a:lnTo>
                <a:lnTo>
                  <a:pt x="830" y="4"/>
                </a:lnTo>
                <a:lnTo>
                  <a:pt x="850" y="11"/>
                </a:lnTo>
                <a:lnTo>
                  <a:pt x="866" y="20"/>
                </a:lnTo>
                <a:lnTo>
                  <a:pt x="882" y="31"/>
                </a:lnTo>
                <a:lnTo>
                  <a:pt x="898" y="47"/>
                </a:lnTo>
                <a:lnTo>
                  <a:pt x="914" y="69"/>
                </a:lnTo>
                <a:lnTo>
                  <a:pt x="926" y="88"/>
                </a:lnTo>
                <a:lnTo>
                  <a:pt x="931" y="104"/>
                </a:lnTo>
                <a:lnTo>
                  <a:pt x="936" y="132"/>
                </a:lnTo>
                <a:lnTo>
                  <a:pt x="936" y="157"/>
                </a:lnTo>
                <a:lnTo>
                  <a:pt x="933" y="182"/>
                </a:lnTo>
                <a:lnTo>
                  <a:pt x="928" y="201"/>
                </a:lnTo>
                <a:lnTo>
                  <a:pt x="922" y="231"/>
                </a:lnTo>
                <a:lnTo>
                  <a:pt x="914" y="263"/>
                </a:lnTo>
                <a:lnTo>
                  <a:pt x="910" y="283"/>
                </a:lnTo>
                <a:lnTo>
                  <a:pt x="916" y="303"/>
                </a:lnTo>
                <a:lnTo>
                  <a:pt x="923" y="317"/>
                </a:lnTo>
                <a:lnTo>
                  <a:pt x="936" y="336"/>
                </a:lnTo>
                <a:lnTo>
                  <a:pt x="955" y="351"/>
                </a:lnTo>
                <a:lnTo>
                  <a:pt x="973" y="364"/>
                </a:lnTo>
                <a:lnTo>
                  <a:pt x="999" y="375"/>
                </a:lnTo>
                <a:lnTo>
                  <a:pt x="1024" y="382"/>
                </a:lnTo>
                <a:lnTo>
                  <a:pt x="1049" y="388"/>
                </a:lnTo>
                <a:lnTo>
                  <a:pt x="1075" y="392"/>
                </a:lnTo>
                <a:lnTo>
                  <a:pt x="1102" y="399"/>
                </a:lnTo>
                <a:lnTo>
                  <a:pt x="1123" y="406"/>
                </a:lnTo>
                <a:lnTo>
                  <a:pt x="1140" y="414"/>
                </a:lnTo>
                <a:lnTo>
                  <a:pt x="1153" y="423"/>
                </a:lnTo>
                <a:lnTo>
                  <a:pt x="1162" y="434"/>
                </a:lnTo>
                <a:lnTo>
                  <a:pt x="1169" y="447"/>
                </a:lnTo>
                <a:lnTo>
                  <a:pt x="1175" y="462"/>
                </a:lnTo>
                <a:lnTo>
                  <a:pt x="1178" y="476"/>
                </a:lnTo>
                <a:lnTo>
                  <a:pt x="1180" y="489"/>
                </a:lnTo>
                <a:lnTo>
                  <a:pt x="1180" y="507"/>
                </a:lnTo>
                <a:lnTo>
                  <a:pt x="1178" y="527"/>
                </a:lnTo>
                <a:lnTo>
                  <a:pt x="1178" y="542"/>
                </a:lnTo>
                <a:lnTo>
                  <a:pt x="1181" y="561"/>
                </a:lnTo>
                <a:lnTo>
                  <a:pt x="1189" y="578"/>
                </a:lnTo>
                <a:lnTo>
                  <a:pt x="1199" y="592"/>
                </a:lnTo>
                <a:lnTo>
                  <a:pt x="1211" y="602"/>
                </a:lnTo>
                <a:lnTo>
                  <a:pt x="1226" y="614"/>
                </a:lnTo>
                <a:lnTo>
                  <a:pt x="1241" y="621"/>
                </a:lnTo>
                <a:lnTo>
                  <a:pt x="1265" y="626"/>
                </a:lnTo>
                <a:lnTo>
                  <a:pt x="1285" y="628"/>
                </a:lnTo>
                <a:lnTo>
                  <a:pt x="1304" y="630"/>
                </a:lnTo>
                <a:lnTo>
                  <a:pt x="1325" y="628"/>
                </a:lnTo>
                <a:lnTo>
                  <a:pt x="1351" y="626"/>
                </a:lnTo>
                <a:lnTo>
                  <a:pt x="1371" y="625"/>
                </a:lnTo>
                <a:lnTo>
                  <a:pt x="1391" y="623"/>
                </a:lnTo>
                <a:lnTo>
                  <a:pt x="1410" y="621"/>
                </a:lnTo>
                <a:lnTo>
                  <a:pt x="1432" y="623"/>
                </a:lnTo>
                <a:lnTo>
                  <a:pt x="1444" y="625"/>
                </a:lnTo>
                <a:lnTo>
                  <a:pt x="1458" y="628"/>
                </a:lnTo>
                <a:lnTo>
                  <a:pt x="1471" y="635"/>
                </a:lnTo>
                <a:lnTo>
                  <a:pt x="1485" y="646"/>
                </a:lnTo>
                <a:lnTo>
                  <a:pt x="1496" y="658"/>
                </a:lnTo>
                <a:lnTo>
                  <a:pt x="1504" y="676"/>
                </a:lnTo>
                <a:lnTo>
                  <a:pt x="1507" y="691"/>
                </a:lnTo>
                <a:lnTo>
                  <a:pt x="1510" y="710"/>
                </a:lnTo>
                <a:lnTo>
                  <a:pt x="1512" y="744"/>
                </a:lnTo>
                <a:lnTo>
                  <a:pt x="1511" y="784"/>
                </a:lnTo>
                <a:lnTo>
                  <a:pt x="1512" y="826"/>
                </a:lnTo>
                <a:lnTo>
                  <a:pt x="1508" y="876"/>
                </a:lnTo>
                <a:lnTo>
                  <a:pt x="1505" y="910"/>
                </a:lnTo>
                <a:lnTo>
                  <a:pt x="1501" y="937"/>
                </a:lnTo>
                <a:lnTo>
                  <a:pt x="1496" y="952"/>
                </a:lnTo>
                <a:lnTo>
                  <a:pt x="1486" y="967"/>
                </a:lnTo>
                <a:lnTo>
                  <a:pt x="1475" y="976"/>
                </a:lnTo>
                <a:lnTo>
                  <a:pt x="1461" y="984"/>
                </a:lnTo>
                <a:lnTo>
                  <a:pt x="1445" y="989"/>
                </a:lnTo>
                <a:lnTo>
                  <a:pt x="1431" y="993"/>
                </a:lnTo>
                <a:lnTo>
                  <a:pt x="1401" y="994"/>
                </a:lnTo>
                <a:lnTo>
                  <a:pt x="1375" y="993"/>
                </a:lnTo>
                <a:lnTo>
                  <a:pt x="1354" y="989"/>
                </a:lnTo>
                <a:lnTo>
                  <a:pt x="1335" y="988"/>
                </a:lnTo>
                <a:lnTo>
                  <a:pt x="1314" y="987"/>
                </a:lnTo>
                <a:lnTo>
                  <a:pt x="1295" y="987"/>
                </a:lnTo>
                <a:lnTo>
                  <a:pt x="1279" y="988"/>
                </a:lnTo>
                <a:lnTo>
                  <a:pt x="1261" y="989"/>
                </a:lnTo>
                <a:lnTo>
                  <a:pt x="1240" y="995"/>
                </a:lnTo>
                <a:lnTo>
                  <a:pt x="1228" y="1000"/>
                </a:lnTo>
                <a:lnTo>
                  <a:pt x="1218" y="1004"/>
                </a:lnTo>
                <a:lnTo>
                  <a:pt x="1203" y="1014"/>
                </a:lnTo>
                <a:lnTo>
                  <a:pt x="1194" y="1026"/>
                </a:lnTo>
                <a:lnTo>
                  <a:pt x="1187" y="1036"/>
                </a:lnTo>
                <a:lnTo>
                  <a:pt x="1180" y="1049"/>
                </a:lnTo>
                <a:lnTo>
                  <a:pt x="1176" y="1062"/>
                </a:lnTo>
                <a:lnTo>
                  <a:pt x="1175" y="1076"/>
                </a:lnTo>
                <a:lnTo>
                  <a:pt x="1176" y="1092"/>
                </a:lnTo>
                <a:lnTo>
                  <a:pt x="1176" y="1117"/>
                </a:lnTo>
                <a:lnTo>
                  <a:pt x="1175" y="1145"/>
                </a:lnTo>
                <a:lnTo>
                  <a:pt x="1168" y="1165"/>
                </a:lnTo>
                <a:lnTo>
                  <a:pt x="1161" y="1181"/>
                </a:lnTo>
                <a:lnTo>
                  <a:pt x="1150" y="1193"/>
                </a:lnTo>
                <a:lnTo>
                  <a:pt x="1135" y="1202"/>
                </a:lnTo>
                <a:lnTo>
                  <a:pt x="1120" y="1211"/>
                </a:lnTo>
                <a:lnTo>
                  <a:pt x="1102" y="1215"/>
                </a:lnTo>
                <a:lnTo>
                  <a:pt x="1080" y="1220"/>
                </a:lnTo>
                <a:lnTo>
                  <a:pt x="1061" y="1226"/>
                </a:lnTo>
                <a:lnTo>
                  <a:pt x="1039" y="1229"/>
                </a:lnTo>
                <a:lnTo>
                  <a:pt x="1020" y="1233"/>
                </a:lnTo>
                <a:lnTo>
                  <a:pt x="999" y="1238"/>
                </a:lnTo>
                <a:lnTo>
                  <a:pt x="982" y="1246"/>
                </a:lnTo>
                <a:lnTo>
                  <a:pt x="963" y="1254"/>
                </a:lnTo>
                <a:lnTo>
                  <a:pt x="946" y="1265"/>
                </a:lnTo>
                <a:lnTo>
                  <a:pt x="933" y="1279"/>
                </a:lnTo>
                <a:lnTo>
                  <a:pt x="921" y="1295"/>
                </a:lnTo>
                <a:lnTo>
                  <a:pt x="911" y="1315"/>
                </a:lnTo>
                <a:lnTo>
                  <a:pt x="909" y="1333"/>
                </a:lnTo>
                <a:lnTo>
                  <a:pt x="910" y="1353"/>
                </a:lnTo>
                <a:lnTo>
                  <a:pt x="914" y="1372"/>
                </a:lnTo>
                <a:lnTo>
                  <a:pt x="920" y="1392"/>
                </a:lnTo>
                <a:lnTo>
                  <a:pt x="924" y="1414"/>
                </a:lnTo>
                <a:lnTo>
                  <a:pt x="928" y="1434"/>
                </a:lnTo>
                <a:lnTo>
                  <a:pt x="933" y="1460"/>
                </a:lnTo>
                <a:lnTo>
                  <a:pt x="933" y="1486"/>
                </a:lnTo>
                <a:lnTo>
                  <a:pt x="927" y="1512"/>
                </a:lnTo>
                <a:lnTo>
                  <a:pt x="921" y="1532"/>
                </a:lnTo>
                <a:lnTo>
                  <a:pt x="914" y="1552"/>
                </a:lnTo>
                <a:lnTo>
                  <a:pt x="904" y="1571"/>
                </a:lnTo>
                <a:lnTo>
                  <a:pt x="891" y="1595"/>
                </a:lnTo>
                <a:lnTo>
                  <a:pt x="877" y="1610"/>
                </a:lnTo>
                <a:lnTo>
                  <a:pt x="866" y="1621"/>
                </a:lnTo>
                <a:lnTo>
                  <a:pt x="850" y="1634"/>
                </a:lnTo>
                <a:lnTo>
                  <a:pt x="834" y="1645"/>
                </a:lnTo>
                <a:lnTo>
                  <a:pt x="818" y="1651"/>
                </a:lnTo>
                <a:lnTo>
                  <a:pt x="804" y="1655"/>
                </a:lnTo>
                <a:lnTo>
                  <a:pt x="781" y="1657"/>
                </a:lnTo>
                <a:lnTo>
                  <a:pt x="754" y="1658"/>
                </a:lnTo>
                <a:lnTo>
                  <a:pt x="721" y="1657"/>
                </a:lnTo>
                <a:lnTo>
                  <a:pt x="705" y="1657"/>
                </a:lnTo>
                <a:lnTo>
                  <a:pt x="685" y="1654"/>
                </a:lnTo>
                <a:lnTo>
                  <a:pt x="664" y="1648"/>
                </a:lnTo>
                <a:lnTo>
                  <a:pt x="645" y="1637"/>
                </a:lnTo>
                <a:lnTo>
                  <a:pt x="634" y="1628"/>
                </a:lnTo>
                <a:lnTo>
                  <a:pt x="621" y="1615"/>
                </a:lnTo>
                <a:lnTo>
                  <a:pt x="610" y="1603"/>
                </a:lnTo>
                <a:lnTo>
                  <a:pt x="599" y="1588"/>
                </a:lnTo>
                <a:lnTo>
                  <a:pt x="591" y="1572"/>
                </a:lnTo>
                <a:lnTo>
                  <a:pt x="584" y="1553"/>
                </a:lnTo>
                <a:lnTo>
                  <a:pt x="581" y="1533"/>
                </a:lnTo>
                <a:lnTo>
                  <a:pt x="579" y="1518"/>
                </a:lnTo>
                <a:lnTo>
                  <a:pt x="579" y="1497"/>
                </a:lnTo>
                <a:lnTo>
                  <a:pt x="581" y="1479"/>
                </a:lnTo>
                <a:lnTo>
                  <a:pt x="586" y="1460"/>
                </a:lnTo>
                <a:lnTo>
                  <a:pt x="591" y="1438"/>
                </a:lnTo>
                <a:lnTo>
                  <a:pt x="597" y="1417"/>
                </a:lnTo>
                <a:lnTo>
                  <a:pt x="601" y="1398"/>
                </a:lnTo>
                <a:lnTo>
                  <a:pt x="602" y="1380"/>
                </a:lnTo>
                <a:lnTo>
                  <a:pt x="601" y="1366"/>
                </a:lnTo>
                <a:lnTo>
                  <a:pt x="597" y="1352"/>
                </a:lnTo>
                <a:lnTo>
                  <a:pt x="588" y="1334"/>
                </a:lnTo>
                <a:lnTo>
                  <a:pt x="578" y="1322"/>
                </a:lnTo>
                <a:lnTo>
                  <a:pt x="566" y="1310"/>
                </a:lnTo>
                <a:lnTo>
                  <a:pt x="553" y="1300"/>
                </a:lnTo>
                <a:lnTo>
                  <a:pt x="540" y="1291"/>
                </a:lnTo>
                <a:lnTo>
                  <a:pt x="522" y="1284"/>
                </a:lnTo>
                <a:lnTo>
                  <a:pt x="505" y="1279"/>
                </a:lnTo>
                <a:lnTo>
                  <a:pt x="484" y="1274"/>
                </a:lnTo>
                <a:lnTo>
                  <a:pt x="465" y="1272"/>
                </a:lnTo>
                <a:lnTo>
                  <a:pt x="447" y="1267"/>
                </a:lnTo>
                <a:lnTo>
                  <a:pt x="426" y="1262"/>
                </a:lnTo>
                <a:lnTo>
                  <a:pt x="409" y="1255"/>
                </a:lnTo>
                <a:lnTo>
                  <a:pt x="387" y="1249"/>
                </a:lnTo>
                <a:lnTo>
                  <a:pt x="371" y="1242"/>
                </a:lnTo>
                <a:lnTo>
                  <a:pt x="358" y="1232"/>
                </a:lnTo>
                <a:lnTo>
                  <a:pt x="347" y="1218"/>
                </a:lnTo>
                <a:lnTo>
                  <a:pt x="340" y="1200"/>
                </a:lnTo>
                <a:lnTo>
                  <a:pt x="334" y="1176"/>
                </a:lnTo>
                <a:lnTo>
                  <a:pt x="333" y="1157"/>
                </a:lnTo>
                <a:lnTo>
                  <a:pt x="334" y="1136"/>
                </a:lnTo>
                <a:lnTo>
                  <a:pt x="337" y="1120"/>
                </a:lnTo>
                <a:lnTo>
                  <a:pt x="334" y="1100"/>
                </a:lnTo>
                <a:lnTo>
                  <a:pt x="329" y="1084"/>
                </a:lnTo>
                <a:lnTo>
                  <a:pt x="318" y="1068"/>
                </a:lnTo>
                <a:lnTo>
                  <a:pt x="307" y="1057"/>
                </a:lnTo>
                <a:lnTo>
                  <a:pt x="294" y="1047"/>
                </a:lnTo>
                <a:lnTo>
                  <a:pt x="277" y="1040"/>
                </a:lnTo>
                <a:lnTo>
                  <a:pt x="257" y="1033"/>
                </a:lnTo>
                <a:lnTo>
                  <a:pt x="236" y="1030"/>
                </a:lnTo>
                <a:lnTo>
                  <a:pt x="218" y="1028"/>
                </a:lnTo>
                <a:lnTo>
                  <a:pt x="198" y="1028"/>
                </a:lnTo>
                <a:lnTo>
                  <a:pt x="180" y="1030"/>
                </a:lnTo>
                <a:lnTo>
                  <a:pt x="162" y="1031"/>
                </a:lnTo>
                <a:lnTo>
                  <a:pt x="145" y="1034"/>
                </a:lnTo>
                <a:lnTo>
                  <a:pt x="127" y="1036"/>
                </a:lnTo>
                <a:lnTo>
                  <a:pt x="98" y="1036"/>
                </a:lnTo>
                <a:lnTo>
                  <a:pt x="79" y="1035"/>
                </a:lnTo>
                <a:lnTo>
                  <a:pt x="59" y="1030"/>
                </a:lnTo>
                <a:lnTo>
                  <a:pt x="45" y="1023"/>
                </a:lnTo>
                <a:lnTo>
                  <a:pt x="29" y="1011"/>
                </a:lnTo>
                <a:lnTo>
                  <a:pt x="19" y="998"/>
                </a:lnTo>
                <a:lnTo>
                  <a:pt x="12" y="984"/>
                </a:lnTo>
                <a:lnTo>
                  <a:pt x="4" y="957"/>
                </a:lnTo>
                <a:lnTo>
                  <a:pt x="2" y="929"/>
                </a:lnTo>
                <a:lnTo>
                  <a:pt x="1" y="901"/>
                </a:lnTo>
                <a:lnTo>
                  <a:pt x="0" y="865"/>
                </a:lnTo>
                <a:lnTo>
                  <a:pt x="2" y="835"/>
                </a:lnTo>
                <a:lnTo>
                  <a:pt x="4" y="802"/>
                </a:lnTo>
                <a:lnTo>
                  <a:pt x="5" y="772"/>
                </a:lnTo>
                <a:lnTo>
                  <a:pt x="7" y="742"/>
                </a:lnTo>
                <a:lnTo>
                  <a:pt x="11" y="718"/>
                </a:lnTo>
                <a:lnTo>
                  <a:pt x="14" y="692"/>
                </a:lnTo>
                <a:lnTo>
                  <a:pt x="19" y="672"/>
                </a:lnTo>
                <a:lnTo>
                  <a:pt x="26" y="659"/>
                </a:lnTo>
                <a:lnTo>
                  <a:pt x="36" y="646"/>
                </a:lnTo>
                <a:lnTo>
                  <a:pt x="47" y="638"/>
                </a:lnTo>
                <a:lnTo>
                  <a:pt x="61" y="628"/>
                </a:lnTo>
                <a:lnTo>
                  <a:pt x="74" y="626"/>
                </a:lnTo>
                <a:lnTo>
                  <a:pt x="91" y="623"/>
                </a:lnTo>
                <a:lnTo>
                  <a:pt x="112" y="621"/>
                </a:lnTo>
                <a:lnTo>
                  <a:pt x="131" y="623"/>
                </a:lnTo>
                <a:lnTo>
                  <a:pt x="157" y="626"/>
                </a:lnTo>
                <a:lnTo>
                  <a:pt x="179" y="627"/>
                </a:lnTo>
                <a:lnTo>
                  <a:pt x="198" y="628"/>
                </a:lnTo>
                <a:lnTo>
                  <a:pt x="224" y="630"/>
                </a:lnTo>
                <a:lnTo>
                  <a:pt x="251" y="626"/>
                </a:lnTo>
                <a:lnTo>
                  <a:pt x="273" y="621"/>
                </a:lnTo>
                <a:lnTo>
                  <a:pt x="294" y="613"/>
                </a:lnTo>
                <a:lnTo>
                  <a:pt x="309" y="605"/>
                </a:lnTo>
                <a:lnTo>
                  <a:pt x="323" y="592"/>
                </a:lnTo>
                <a:lnTo>
                  <a:pt x="333" y="575"/>
                </a:lnTo>
                <a:lnTo>
                  <a:pt x="340" y="559"/>
                </a:lnTo>
                <a:lnTo>
                  <a:pt x="343" y="541"/>
                </a:lnTo>
                <a:lnTo>
                  <a:pt x="341" y="528"/>
                </a:lnTo>
                <a:lnTo>
                  <a:pt x="340" y="504"/>
                </a:lnTo>
                <a:lnTo>
                  <a:pt x="341" y="479"/>
                </a:lnTo>
                <a:lnTo>
                  <a:pt x="346" y="460"/>
                </a:lnTo>
                <a:lnTo>
                  <a:pt x="352" y="442"/>
                </a:lnTo>
                <a:lnTo>
                  <a:pt x="360" y="429"/>
                </a:lnTo>
                <a:lnTo>
                  <a:pt x="377" y="416"/>
                </a:lnTo>
                <a:lnTo>
                  <a:pt x="394" y="407"/>
                </a:lnTo>
                <a:lnTo>
                  <a:pt x="417" y="400"/>
                </a:lnTo>
                <a:lnTo>
                  <a:pt x="439" y="394"/>
                </a:lnTo>
                <a:lnTo>
                  <a:pt x="458" y="389"/>
                </a:lnTo>
                <a:lnTo>
                  <a:pt x="482" y="386"/>
                </a:lnTo>
                <a:lnTo>
                  <a:pt x="504" y="381"/>
                </a:lnTo>
                <a:lnTo>
                  <a:pt x="530" y="374"/>
                </a:lnTo>
                <a:lnTo>
                  <a:pt x="555" y="363"/>
                </a:lnTo>
                <a:lnTo>
                  <a:pt x="576" y="347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4191120" y="213336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962520" y="2209680"/>
            <a:ext cx="142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e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257800" y="15238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313320" y="1523880"/>
            <a:ext cx="237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utput to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g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bl00381_" descr=""/>
          <p:cNvPicPr/>
          <p:nvPr/>
        </p:nvPicPr>
        <p:blipFill>
          <a:blip r:embed="rId20"/>
          <a:stretch/>
        </p:blipFill>
        <p:spPr>
          <a:xfrm>
            <a:off x="2057400" y="2743200"/>
            <a:ext cx="777960" cy="434880"/>
          </a:xfrm>
          <a:prstGeom prst="rect">
            <a:avLst/>
          </a:prstGeom>
          <a:ln w="0">
            <a:noFill/>
          </a:ln>
        </p:spPr>
      </p:pic>
      <p:pic>
        <p:nvPicPr>
          <p:cNvPr id="353" name="bl00381_" descr=""/>
          <p:cNvPicPr/>
          <p:nvPr/>
        </p:nvPicPr>
        <p:blipFill>
          <a:blip r:embed="rId21"/>
          <a:stretch/>
        </p:blipFill>
        <p:spPr>
          <a:xfrm>
            <a:off x="2438280" y="2209680"/>
            <a:ext cx="777960" cy="4352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600200" y="1981080"/>
            <a:ext cx="99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ppl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. Sept.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5A23-D9AC-4060-9265-97356657E3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1T13:11:18Z</dcterms:created>
  <dc:creator>Juergen Dix</dc:creator>
  <dc:description/>
  <dc:language>en-US</dc:language>
  <cp:lastModifiedBy>Dr. Jürgen Dix</cp:lastModifiedBy>
  <cp:lastPrinted>1999-08-11T14:23:02Z</cp:lastPrinted>
  <dcterms:modified xsi:type="dcterms:W3CDTF">2002-09-25T19:39:55Z</dcterms:modified>
  <cp:revision>328</cp:revision>
  <dc:subject/>
  <dc:title>IMPACT</dc:title>
</cp:coreProperties>
</file>